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2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notesMasterIdLst>
    <p:notesMasterId r:id="rId36"/>
  </p:notesMasterIdLst>
  <p:sldIdLst>
    <p:sldId id="256" r:id="rId37"/>
    <p:sldId id="257" r:id="rId38"/>
    <p:sldId id="258" r:id="rId39"/>
    <p:sldId id="259" r:id="rId40"/>
    <p:sldId id="260" r:id="rId41"/>
    <p:sldId id="261" r:id="rId42"/>
    <p:sldId id="262" r:id="rId43"/>
    <p:sldId id="263" r:id="rId44"/>
    <p:sldId id="264" r:id="rId45"/>
    <p:sldId id="265" r:id="rId46"/>
    <p:sldId id="266" r:id="rId47"/>
    <p:sldId id="267" r:id="rId48"/>
    <p:sldId id="268" r:id="rId49"/>
    <p:sldId id="269" r:id="rId50"/>
    <p:sldId id="270" r:id="rId51"/>
    <p:sldId id="271" r:id="rId52"/>
    <p:sldId id="272" r:id="rId53"/>
    <p:sldId id="273" r:id="rId54"/>
    <p:sldId id="274" r:id="rId55"/>
    <p:sldId id="275" r:id="rId56"/>
    <p:sldId id="276" r:id="rId57"/>
    <p:sldId id="277" r:id="rId58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notesMaster" Target="notesMasters/notesMaster1.xml"/><Relationship Id="rId37" Type="http://schemas.openxmlformats.org/officeDocument/2006/relationships/slide" Target="slides/slide1.xml"/><Relationship Id="rId38" Type="http://schemas.openxmlformats.org/officeDocument/2006/relationships/slide" Target="slides/slide2.xml"/><Relationship Id="rId39" Type="http://schemas.openxmlformats.org/officeDocument/2006/relationships/slide" Target="slides/slide3.xml"/><Relationship Id="rId40" Type="http://schemas.openxmlformats.org/officeDocument/2006/relationships/slide" Target="slides/slide4.xml"/><Relationship Id="rId41" Type="http://schemas.openxmlformats.org/officeDocument/2006/relationships/slide" Target="slides/slide5.xml"/><Relationship Id="rId42" Type="http://schemas.openxmlformats.org/officeDocument/2006/relationships/slide" Target="slides/slide6.xml"/><Relationship Id="rId43" Type="http://schemas.openxmlformats.org/officeDocument/2006/relationships/slide" Target="slides/slide7.xml"/><Relationship Id="rId44" Type="http://schemas.openxmlformats.org/officeDocument/2006/relationships/slide" Target="slides/slide8.xml"/><Relationship Id="rId45" Type="http://schemas.openxmlformats.org/officeDocument/2006/relationships/slide" Target="slides/slide9.xml"/><Relationship Id="rId46" Type="http://schemas.openxmlformats.org/officeDocument/2006/relationships/slide" Target="slides/slide10.xml"/><Relationship Id="rId47" Type="http://schemas.openxmlformats.org/officeDocument/2006/relationships/slide" Target="slides/slide11.xml"/><Relationship Id="rId48" Type="http://schemas.openxmlformats.org/officeDocument/2006/relationships/slide" Target="slides/slide12.xml"/><Relationship Id="rId49" Type="http://schemas.openxmlformats.org/officeDocument/2006/relationships/slide" Target="slides/slide13.xml"/><Relationship Id="rId50" Type="http://schemas.openxmlformats.org/officeDocument/2006/relationships/slide" Target="slides/slide14.xml"/><Relationship Id="rId51" Type="http://schemas.openxmlformats.org/officeDocument/2006/relationships/slide" Target="slides/slide15.xml"/><Relationship Id="rId52" Type="http://schemas.openxmlformats.org/officeDocument/2006/relationships/slide" Target="slides/slide16.xml"/><Relationship Id="rId53" Type="http://schemas.openxmlformats.org/officeDocument/2006/relationships/slide" Target="slides/slide17.xml"/><Relationship Id="rId54" Type="http://schemas.openxmlformats.org/officeDocument/2006/relationships/slide" Target="slides/slide18.xml"/><Relationship Id="rId55" Type="http://schemas.openxmlformats.org/officeDocument/2006/relationships/slide" Target="slides/slide19.xml"/><Relationship Id="rId56" Type="http://schemas.openxmlformats.org/officeDocument/2006/relationships/slide" Target="slides/slide20.xml"/><Relationship Id="rId57" Type="http://schemas.openxmlformats.org/officeDocument/2006/relationships/slide" Target="slides/slide21.xml"/><Relationship Id="rId58" Type="http://schemas.openxmlformats.org/officeDocument/2006/relationships/slide" Target="slides/slide22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 type="dt" idx="103"/>
          </p:nvPr>
        </p:nvSpPr>
        <p:spPr>
          <a:xfrm>
            <a:off x="381312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 type="ftr" idx="104"/>
          </p:nvPr>
        </p:nvSpPr>
        <p:spPr>
          <a:xfrm>
            <a:off x="0" y="937404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6"/>
          <p:cNvSpPr>
            <a:spLocks noGrp="1"/>
          </p:cNvSpPr>
          <p:nvPr>
            <p:ph type="sldNum" idx="105"/>
          </p:nvPr>
        </p:nvSpPr>
        <p:spPr>
          <a:xfrm>
            <a:off x="3813120" y="937404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4E42127-D705-46C2-B367-F3B5B815F6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188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Номер слайда 3"/>
          <p:cNvSpPr/>
          <p:nvPr/>
        </p:nvSpPr>
        <p:spPr>
          <a:xfrm>
            <a:off x="3813120" y="937404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5FB1A1BB-9435-4FDA-B135-DB93831A71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5673-6981-437A-B36D-0EEE73EFA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FB8E-3688-4C45-AAD2-383EFA51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4ECD4-EE35-4581-801A-792E92FB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AB296-C1C8-4176-9C53-FCA7CC2A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09F871-8E5E-4C21-B395-8E2FC683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79687B-7435-480A-8FAD-50D7F6FE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8E926A-91CF-440B-B2C0-23BDA49B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2CD69-E5B5-487F-A6D0-26F2382C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BED72-0AFB-4B8C-9916-77653E1C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C409E-39CE-4688-B500-8A32C5B59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28EBB-0810-4E67-B4EB-2E691553B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62B89C-A423-4DED-9544-3FABF6274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9FBB-36BB-4740-A806-30573EECE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1DB705-71F1-4AB7-9DB6-C4467A90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7A4EA-0B3F-4667-8975-E44EF588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4733AD-95C2-47D1-A4EC-EA6FE9C5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311FA-6340-4EBD-BE81-23DBF487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1237DC-281E-48B0-B822-B4AAF2A0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344D7-87D7-4A0B-9FB2-E2EF6B36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25B4F-A4C9-4F62-A0DE-B2A337C9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BC7A5D-E29A-42F6-AB3D-C1DFF6FA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F13729-34D4-4928-879C-23498CD0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2F04D-6907-46E4-9F47-A9AD8169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D431-6B54-44E1-AF1B-FD9B80F0A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AD4241-2AF5-4CF5-B5EF-5BA2414CE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006F8-D0BF-40A9-B83D-2CA3D2EB9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63469-0204-40B7-BA57-40032A16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461B9-2B53-41B1-9E27-AD531A59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EF765-9046-4F21-8AE8-862B3636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A00C66-FD92-4B81-AF7E-086C2C0D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550B7-FACD-4796-9BF0-D0D6012B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1E7A1-D975-4FE4-8330-CB410175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BB53E-E1C3-4568-99F4-A86030EB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EC3822-A010-41A3-90EF-9B1BC403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98B7-ED46-487A-8033-07455B7FF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92BA0-FA23-45EA-B0B5-FA9DE35A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D0CFD-3773-4681-B482-70E31E0AA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9C649-2478-46DF-A6B9-FDA415C9B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85D2E9-9699-4518-81CA-DF86B8B24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40BF65-62CB-40A0-829B-BE93FC1E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69714E-C8B9-48C7-8E73-6A4D2177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692F66-B58D-4BEA-91AF-11D82680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E48E71-11A8-4E23-85DE-2DFE71B1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88B85-E75A-4DA2-85C4-8CA27A03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38A708-645D-4F4F-A8B7-42F9A9E8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5A92-BAED-4870-96FA-25C035B7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1D8951-BFA3-4C30-809D-A6238197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A7546C-571C-4FBC-A09E-ADBBD5BC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8A1499-452D-4AA1-B9B6-7D686A3E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1B70F8-DAAF-4D37-B328-5C988D89B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02AD06-3C8B-4D39-B6FC-1B0FF351A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C22E54-BAD5-42FF-922F-9FF49B910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D52A28-7045-4123-979E-60E6FBF1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75F55C-DA38-4CD5-8088-746F7C8E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0FFDBC-6AE1-4C0D-8388-FAC93959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0C33DE-6EAB-4DDC-97EB-8644313C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B5B3-0B84-45A0-945F-E603AD5D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99F9AA-3533-425D-A311-A9BBBB14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8B4102-1832-445F-8BC1-DB815BAB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E722CB-3E42-4F46-9E18-B7AD653D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353D76-9C4F-4325-9E37-0974980C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AB4BD6-F77B-40E7-B56B-DF89D0FE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4ED370-23AE-4EB9-AB85-51B46366D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60516D-BF5A-4DB6-8B98-4A03328C2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8011E4-148E-4AD6-AEB6-CD5ACC2F9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8494CC-7A76-4FD7-A6CA-8B0D25C7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A3E844-4EE3-44A2-B885-41469FBF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E601-95D8-46A2-A65E-68F81E81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57C0B3-495C-4DCE-9BF3-A1738FD4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F1BE30-E2C8-49D3-8E03-8F1BD2CA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B0C8EC-E5EF-4FB4-BA43-082787C3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E83182-4C3F-423B-98ED-2CBDBE6D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57DDA1-A896-4F6E-BF55-4E0A024E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201A22-2CD9-48AF-828E-7CE40F62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1999A4-7308-4EA1-BC80-4ADC3896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F24572-2800-4387-9AD3-CF58F5DC7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0B48A3-BC30-42E6-A503-A7C306A5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E045B3-14FA-4BEB-9AD1-8F5DC3CAB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5F17-2490-4D3C-8345-1BA58055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3B965E-DDA4-4D92-BD95-B6CDA08F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354F4A-E359-4189-93F9-540D9CC1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DC24DD-97FB-4E29-91FA-482632A8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2BC89B-F17D-4167-982B-29F6004A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925FAA-0F5A-4E4F-B99C-BF96CCF2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9A9C2A-F2C5-472A-83FE-63229D23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942C79-F04E-48D1-B977-CA0A7C5D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AF5031-C2BA-451C-8F51-0CF05D1D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F401F9-3411-4E6D-B09B-41D2D436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42E503-76F3-4B8D-ACBC-CB85029E1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BC49-01F1-45F2-9209-52178C52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9554CB-7665-4F8B-91BC-EB0449EE5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AFD02F-32D4-4B1D-B3E6-ADE90DFA1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6B2A75-C18D-45B5-8792-1528CB52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098C39-846D-443C-BD99-F6B03441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F9A23F-5663-49DC-8B2B-3DFE1463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CE6C32-AA28-4043-89AB-3DC364FA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621540-B327-4C6F-9E0D-AD06408B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0E43D9-A4FB-4FF7-89C7-ABD69EEB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A752E4-1824-4307-8DC8-80DC9762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606C83-4BA8-466C-9601-3BC5C77D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F2C8-5DB3-43B0-BF08-7D59B8DF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A525EC-879E-43AC-BB16-DA50B228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7149C1-B430-4602-974F-A3162B085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FB8E85-F12E-43A8-B86A-87246CB1C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19434E-530D-4419-BA79-B9B3020E7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26359E-E21F-4409-97E2-646C322A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CA53E2-64F2-4DBC-B4B1-9A3A23C0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DA90D5-A937-495F-88D8-462C69F7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BE22E0-485F-4B04-B0AF-8EA20A4D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114E1C-E616-46CE-9519-24C87DCF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145650-BEBB-4AFB-84CE-55203C8C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997E-AA8F-4999-A7CB-22D0F725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91D8-9FC6-4CFA-91C9-E0FBACE1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F7C983-386D-4354-9C16-438B47BE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61CB84-EF0F-43F5-A646-B6172F33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EE62F1-D134-4A87-9EF4-FAEBE3EE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29246A-26B1-4499-9B47-BA3F6212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A3853B-BEF6-4302-9FB8-BDA3BDCA5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8A5AE9-6190-4BC7-9041-F70A46533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D755A3-6403-4FC3-8246-BE8EFAFA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6B2F90-1876-4BB7-9528-942A3E8A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0FA3F6-DA31-4F1E-95A5-7BDC04C0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E3BEBA-6479-45EE-9580-0CB3735D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2060-A1F6-4CFA-AF0B-BD8ADC03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267286-91E9-4FC2-84C9-6676EB28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5FCDBE-6F18-409A-9450-A338C106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84860F-EED9-421C-89DD-BE71576E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ACA691-89A8-463C-8461-191FE2AE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874AF6-CC00-4918-88DB-BF0D7089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02D2DE-D236-4A14-A273-C78243E77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F7C449-3A7C-42FC-9CA3-96BA2DEA6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2AF8CA-AE6F-4EB4-830F-D993165A7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9606A9-ECCF-4FA3-885E-CF231ABF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145959-4F87-462D-B018-525656C6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6317-73FE-40E0-BE72-A1D3282E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008F14-5245-4369-AB34-FEB79FE1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5FA60B-BD1D-4078-8C6B-DE4B31D6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9ABE11-9CB6-4952-8DA8-F6CF0018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094545-5842-4337-A7DD-E24CB83E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FD9F43-A3B9-439A-A02C-1D401794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38F670-642B-4D7D-95CA-544BEFDB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16532F-0BD3-42F1-970A-1393D162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339CAF-DBE7-4902-B57A-5728255C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E14BF6-8F91-4BC3-BEC2-BBAE1B446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6B8DC6-4BFE-4C4A-8F8E-F02C0EA66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87F6-19BD-4EC4-96B0-4081DDE0C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95E649-122F-4639-A2A8-B551B56A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CB46B8-8E86-48A4-B68C-C04582C6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A66B0B-46AA-4937-B60F-020C449B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F6BEA6-4B9C-4449-92E4-C77A4082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049FB1-5BC4-4CBD-BDEC-75FF4D3B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26E419-3B9B-4BFA-BF93-C727B8D2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CC851D-04F8-4E61-BCFD-1FCEF644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75D225-5B44-4DBB-B7E9-55DB90F8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929CBD-FED8-46D6-9281-7DAA34A0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5E44BA-930E-487F-9652-B80C5BBFB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9797-B64F-4CAA-9218-B6B92C69C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B9A648-DE94-4731-9B16-9990831FC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816C2B-CEA7-4C6E-A398-4FA74CCE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08D812-4F9D-4521-9067-471055E2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A7ECAD-1BFB-4044-93C6-CCD5124F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084CCB-0E9F-463F-A2D1-F28552A3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14FF30-8B33-4E2A-A009-5359E5E6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7A48C1-0FC1-4078-B625-8D7E4BCE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E6293D-C222-4F17-9957-F4306D01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C32B90-913C-4265-8036-DA7F6357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F57289-1611-4DA3-8942-0C0CEC34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ABE86-E228-4428-9D54-5D8EC7C2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826E1B-B9E8-4472-9A07-81E1B1D8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B96ABD-DAC3-4958-87F8-19096AB12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ED43BE-4F47-45A5-A36F-82586DD6F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4382B4-3695-44E8-B09A-4554F594B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C1D556-12AD-42AB-A9AB-F9D91383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F5470F-2363-4284-9640-BB9262C3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516928-B5EA-4054-A3BF-EE84CB4C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3DE5C0-F9EE-478E-A954-66461AC8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BDC781-543A-46AF-80C6-A85762FE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CD8AE4-9A0E-47A8-8353-BA3942F2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22751-C188-4285-97AA-5CB9269D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9B4B90-9DB2-4DB4-970C-286A8187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62B369-B2C1-4B9A-AF23-0CD3E704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DA3D89-3F15-40EC-9C69-AE14408B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8D6EE8-311A-4873-85E8-A4CACE55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98A0C6-A29A-4E89-A0E2-DE1B8AE33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C101D1-0E04-4986-89EC-CC5632AD0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8FC6CC-FBDC-4905-A81D-4F63C9C7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B1A251-C93A-4DB3-B7AF-32A5656F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208551-590A-4CEC-B780-8602DE5C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A24223-F2FE-48A8-B262-DA9C1080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54FB0-864C-49F6-A089-2F4794CC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388A04-2FA4-4F5C-B0BB-68F79A14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ACE108-65C9-4A33-86FA-0CE8DC77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D92092-CB7C-4C52-AABA-4992AEC0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C500DE-11B5-4ACB-A009-2C483626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7F5565-C3C5-4E53-820D-B8567F5F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864A54-D1E9-4317-B102-E565D3CF4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881697-A64A-4FED-8B8B-832196EC8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5132F0-D7CB-4415-AC27-9988E2F72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1100CF-CF7F-407C-95B7-C950C0C5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915489-6DD9-477C-8840-D74CB5EE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01F5A-3682-4B03-8284-E61FDBF9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C28096-EA1E-4EE7-9F8B-B6E833E9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14A5EC-2778-457D-A30B-523EC790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B27A88-9B75-4C46-8C72-2D929C97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0534BC-C67C-4436-A178-2C5CB1F2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3F2D09-BFA9-46A8-B990-DD187785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678561-45B2-4157-8997-2053A736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BCAE38-3298-41C4-9137-1F8CC8D0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884E94-09BE-4A0C-9ED9-5C8030288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28907D4-1092-4DCC-BC4B-4EF45723C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07904CD-5DF9-459F-82F9-F547B926A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337EF-E260-486C-B042-109427D8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07315B-5997-456B-A0BA-86817AB9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3B651A-C886-4A73-B55E-71D3DF0C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86EBDE-D651-43FE-A93D-EAB30D7D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5DC4FE-0369-4A1F-ABD9-7ECF860A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81DE28-D955-4677-9FBC-21303CC1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24D3A63-88A6-4516-AA23-76388B78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751710-DBF0-45FC-B35E-FB7923EE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71B719F-6A4B-4400-B80A-3A2070AB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25B625-86F0-4C9A-B655-03554E48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78EFBAF-1B2F-4AF8-B27B-2BD316B6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7072-D3FA-446D-8A43-34D487CA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4B2D3-3EF2-4322-ACD5-7B4FD2C7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D37FB1-0204-4F43-B293-2706EE8E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E918C8E-D2C2-434F-B80A-14261E362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C5505D9-00EF-4900-B236-66C60C4B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960ABF-7A20-476F-8149-4157EF71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048A835-07C4-4E10-A112-849F4E20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61921B-FBE8-400E-9CD7-49E61C18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577628C-9E16-42B3-A545-E3DCDFB4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64400DD-F88C-4A8E-AEA4-527887D4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A74BEFC-0B4E-4453-840D-9CC4B57D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0236192-94DE-437E-89A8-D7DFC931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9B567-23A8-4C59-8C59-D5F3AE3A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E977B1C-F8D9-489F-AA94-71C98A15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9F840E-8A3B-40C7-8995-01C3DCF22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F3EB0C8-8820-48E1-BEBC-BE693E478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4524570-B0A8-4852-90E4-CAA1864DD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443C656-0EEB-4CFD-A479-743A43B8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E3CE1A1-8735-4A09-A02E-A804A23F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9D6DF91-56FE-4896-BD97-2B311C60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E918BB5-59BC-45D4-93D3-8798FAEB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82164B0-6AE0-4F74-BE9B-A49CA298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4F3C3DD-0AC9-4B7C-9C1D-279FEEBD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2B25D-2712-4210-81B8-182E7572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BC51AC-6044-458C-9615-929B04EE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E7852A6-29B4-412A-B69A-E8B02209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733A994-5AC1-49D4-9FF3-B17EEA20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B1EA845-7891-4CE1-8FD1-E7F0CDFE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9109577-AB80-40AD-AFA5-88F4D7807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F4A37E-DDCB-42BA-81AC-711282C2B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59E2321-E444-4196-BC70-F7519E7A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4A921C1-21BD-4666-BFAB-4D9C85A3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48EE156-60D5-4FF7-ADD3-D47155CF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4A84F90-35BB-4096-9F2C-3ACB3CE3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D95A1-14D2-404C-85F0-0F4AF326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CE2D744-0034-4745-8524-7B3ABF4C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A4B0DC8-3160-4DA0-BAA1-3411DC44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9CDA1E9-66EF-4928-884C-426B5FBA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5666629-D534-41D8-8F66-C82E0890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DE26CF9-20BB-4BFC-9CBB-67A7CEB5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752BBF9-4E4F-4670-B179-542040BB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81F013F-13DC-4FFA-B543-7CAAAE04E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9A550B3-C1AE-456F-8667-87BEA9CA5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3F64719-3F41-43C8-B6D2-E8108121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939AF59-263A-450D-93E0-5D5F1BA8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ED8BE-5203-465D-9F19-1507BD76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B6D19BB-1539-4CDD-840F-6986371C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F2FD30B-8253-4E21-A1CD-69BB1910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F1AE5C4-8E97-466C-A281-A7AE88C2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3B29C06-B564-494B-8688-C298C8F3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A3C3617-CB6E-496E-AEA0-7B2390AC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AF3408-FBA0-450A-B8D9-6C5F0820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A5E47C5-41C1-4A8E-AF43-E77D9CBB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2F16DD8-2566-45B4-AA89-547834D76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4624405-3803-44DB-8977-0D9093C96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1380D64-D878-4954-B277-9DE463459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E50BE-0ADE-4193-BBE8-56023D2B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7467BDC-3089-4F7C-B060-8872A002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C74260A-3B59-465B-9C7F-BBEA1F52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5F57839-588C-4601-A302-90C4A6C3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6370F38-4301-4595-B766-E468D826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7172B10-30B7-44DB-87DD-FD212F77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7570EB8-F3F1-4D3E-84CE-6A6C1897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0034EA0-010C-49CB-A7F7-BC351C86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12837EE-21CF-4E8A-BA1B-00254D30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106CF1-997B-46B7-A94C-F7EAC45A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B867140-667D-4C29-8A94-3F046F18F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ADCEB-86F0-4C0E-ACA5-9BE1A205E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000B882-3A0D-4A41-B62C-5BA1DEDE8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1D34753-AFC7-48D0-99CF-A0F1801F2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7DD7F61-2873-4477-AC0D-654B1C0E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5492824-C6E7-42D0-B9E9-876CADEC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FB6EE06-48E7-417C-8964-8DB45EB2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8A350B0-6F70-4B22-A041-0750977B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AAFFB41-2603-4BA7-8915-3E4424B6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0004356-AD34-439B-AC99-B4D4E673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FBADA10-EBAC-4BF7-98AD-AA0604D5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F80EE89-D537-4683-B5B6-0D71D6C4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1CC1E-B832-45F3-B0FA-BC7DF3B16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1457CA6-E053-4B53-93B1-FAD5E197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52EEE50-ABD0-44F6-B2E4-0DDB71962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BBFB1D7-3587-45FB-A5F8-02EC488A0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DABE0F6-A365-4007-B3B3-914C92A45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90E5FDB-27E2-4800-99FF-7B725102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394C74D-3A81-487D-965E-E5D8BEEF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AEB311D-21F0-4769-ACA1-C4F9BE6A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5AEC60F-3FFD-4853-A410-81FCD3D2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36D53FE-7204-41F2-8776-F670A466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8C698DF-8899-4BF7-8967-D992794C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38CC4-F2AF-4999-968A-DE40BB7E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666438C-A69D-40F6-9421-16B447FE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0163F0A-E847-472A-BEC5-4C3C6504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4B3004E-8D2B-4E40-B975-6D3C7876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ECDAB0F-8E25-45DC-BC25-8147C6BF2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D612958-9955-45CE-8F60-84156CC94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D50AAAB-2770-4C49-A451-290DC852B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6E79A21-61C5-463C-83BF-F85D2E5B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887DCFA-C976-4723-90FB-973BEB73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5F592B4-49FF-4C53-9B71-EED58DAB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A4710EF-614F-4A30-BE58-7947F22F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95F72-DF17-4D64-9015-C5718036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3EBC6F3-88C7-4884-8FF9-3789EEE7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893B332-295E-404C-BACA-90A13F00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E085252-8688-4462-8CA7-CB1CBD82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377DFF1-0259-4C80-AB76-2C9D7948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E3A674D-020B-4C47-B3C8-11B11954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F6FD8B1-6EF4-4FD8-9ABA-117193606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0C2DFFA-AAFA-4299-A77D-E7EBEAF1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DABF9FB-9285-4652-8A50-75D6BB3D2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5BD846E-FA25-4E18-9E62-FD6D764B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1A2B286-AACE-467B-A8C4-E1258FF4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01AE-89FC-4B0D-A827-99DABFF2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5B33D-596B-4E44-81C7-297336A4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051FBB7-4505-46DE-9A0E-03ECCBCE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07882D5-0F1D-494A-8FD7-20B2DFA3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C480206-757D-4AF0-82AE-B8DF0050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5B0CE2C-BE89-44D8-8CB1-75CC80AA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25B6718-6CB5-450C-9E13-ACF0B764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5E9822E-ED52-4559-A634-56CC7130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EE4DF0E-70C9-4FA2-B920-A7871156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2E95C66-E0DC-4FA2-8368-A4425EA5F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9BFFC84-EAD7-4616-93AE-A42B6BEF4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313A8-34EF-4835-A9F1-5DFC66A7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CA626-E2A9-4C03-B5D7-27FD2F6C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8E2A9-8CEF-47C0-A65C-BDAA5B42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7D080-0C8E-440B-840E-CF7DA2C2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FCD3F-662E-4103-A7B5-DFF284EF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4C29A-B2BD-4DA1-BFCE-164F03FF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E2D0E-4952-411A-98E0-9EEBE9DA4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B4E55-B62E-44E0-B3CA-9E628B7C7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0113D-FCBE-49CA-A3DF-18146AB8D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A6FA-0E41-479C-85CC-D99A0DD1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73CF0-5DF3-47D4-BABA-F765A664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9C715-72D0-4E21-A29B-C9A9A3FB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7C7F7-7F8F-4C49-B83C-102EC57A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4FACE-EC7A-4CC0-98F9-6D911118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B6998-D0FD-401C-9B0D-35173504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9C94D-9B93-4F47-8F32-85A9E4C0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A86CC-B032-437C-ABC9-88013018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4545B-7DB7-49DD-8D3F-77B28E73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2AECB-538B-4694-8C9E-66288085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B1E76-5462-4A98-9296-D8957F552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D9FC-84FC-47C0-82EC-25D68786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E3C23-3CA7-4948-BCB8-4F19E949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8FB08-5747-4ABD-AE7B-8452AD212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2333A-339A-4854-B892-A3D5C6CB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2876A-7A15-4356-895F-41B09014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7F99F-2DCC-48C9-9302-AB3A9236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BE6A9-D4B6-472B-A63E-C072847C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6A647-C5FC-4138-A734-75B51401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812D3-6718-48D1-B3B1-9C0FB353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66D7C-C5F7-40FB-AB56-69540BB1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C208B-7D8D-4581-8DD2-D1D745A2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86F2-53BD-4855-9559-521C3FBF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310B4-9607-43E3-97A0-F984F13B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947D4-63D6-47CA-BC9E-B83B14E15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2E8DE-CEF6-4E69-888D-2053DC036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0D4A3-18C5-4782-8CC4-C231706E4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F9F9E-2837-4ABD-9189-76F2FC1F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6419D-1C37-44E8-9FA2-A2740BAD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5F56B-601D-42A3-BD56-B7123BB1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6FD6A-8E9B-4997-9632-D79BCC38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E2E9E-4C2D-4C23-9D35-F21AF57A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82567-922E-4A9D-BBFA-E23A6FD2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1F42-8D96-41BD-948D-7E3640F4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B19AB-D2DA-4A1F-8E02-1D924349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70D30-5FC3-4865-8652-A9249E79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35225-D706-4110-88C1-AEDD386B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F5E47-9289-4756-A93C-81A445973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7D8AA-F10F-4A37-8F48-0471EC774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EF2E3-CAD6-409E-A86A-A622E0BC8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701FE-DCF4-4D28-AD64-889EFE7B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2C4C0-5A12-4234-BCEC-0606A601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9A7BA-D423-4738-8F87-6FC97275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76257-1335-4AE9-9320-03FE3EFD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D423-BF47-4DB1-803F-3697E82A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50595-65C5-4EA6-943C-3AABE9D7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8899A-FFC9-4556-B374-2473349E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0C98F-A2FA-4187-B6E1-F984425D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B7326-EA6B-40EC-B619-A44E8489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47064-D3BE-4359-8721-3038C0CF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935F6-8059-4BC5-B6B5-B04518AD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31AB3-F92E-49D9-916A-5C5042032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ED346-319D-49BF-8BE2-937DC3310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FCCEB-00CE-4FC1-8D87-4768EFE9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83417-1B0A-4903-AA4E-A1C2BFC4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041C-D859-4344-96CF-870E176F54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1242-CB67-4479-816F-5355EFCA5E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1F18-66C2-455B-A889-5099112588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CF40-A3F2-4926-B40C-867A6928A1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15B1-508F-4C68-B946-60038F44E6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8C2E-BC06-4127-BF35-B930E1E2EA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C91E-5E3B-4EE6-813E-AF76CBAA70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38F1-817A-46EF-8289-EFDFDB7639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0110-9FEE-417B-A2F7-CA40D73B49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A5D7-7F6B-46A0-9C0F-7A1E13658C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8A8B-6C10-40A3-9D22-08D733EF5D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A21E-6662-422F-A0F6-C23443B222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93E1-E7AA-42F0-9513-7DC2E7D36F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84FB-D83A-4E6D-9AFB-D304BD89BF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9A44-0BDE-4F38-B75F-25AD1DA626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A6E9-0853-41A7-A594-8337484132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CA6A-ACE0-4461-91B9-EF7838B4E5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C2BF-F90E-4D5E-AE84-107A21BE55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DEE9-7013-482F-BD1E-26B80D924C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8F09-B5D2-4454-A551-49B2422C99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1962-BE6B-4B6C-972D-5375F23167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CA40-CCB1-4866-AD0C-E97AB4CAFB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39BD-5D85-4A1E-8A6B-A05567FF68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5D20-ED19-4782-AD69-EAAADE915A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7E03-9499-4AEE-BEFB-B1D18337EA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7C0B-06BD-42D5-B321-1A823AF297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058C-A92E-46B7-812A-C51761CC7A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3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354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5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356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7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368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6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387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4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405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2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13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4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5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6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 type="dt" idx="10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E41C-AAFF-439B-82FF-41FEDA1ADAF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6E89-08AD-4549-AC66-E92C6FA5D4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9F35-3F9D-4554-A170-11F1876B51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3111-CC09-4398-9EDB-4A1CA06A33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6A52-E737-4479-A2DD-52A46972DF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6D40-0C45-40AF-B6B7-D90D00548C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309B-1F84-4C56-B89A-637D2C56B3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C4FC-A387-4EEF-A08E-06B52A9E44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356760" y="1071360"/>
            <a:ext cx="8294760" cy="212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Бюджет для граждан»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полнение бюджет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Колотиловского сельского поселения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 2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6" name="Picture 5" descr="i?id=5b90ae0823253058baec6ec95c465d24&amp;n=33&amp;h=190&amp;w=154"/>
          <p:cNvPicPr/>
          <p:nvPr/>
        </p:nvPicPr>
        <p:blipFill>
          <a:blip r:embed="rId1"/>
          <a:stretch/>
        </p:blipFill>
        <p:spPr>
          <a:xfrm>
            <a:off x="3357720" y="4000680"/>
            <a:ext cx="250020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TextBox 2"/>
          <p:cNvSpPr/>
          <p:nvPr/>
        </p:nvSpPr>
        <p:spPr>
          <a:xfrm>
            <a:off x="0" y="0"/>
            <a:ext cx="9144000" cy="885960"/>
          </a:xfrm>
          <a:prstGeom prst="rect">
            <a:avLst/>
          </a:prstGeom>
          <a:gradFill rotWithShape="0">
            <a:gsLst>
              <a:gs pos="0">
                <a:srgbClr val="c5e0b4"/>
              </a:gs>
              <a:gs pos="100000">
                <a:srgbClr val="e1ecfb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ь Налогового кодекса Российской Федерации для бюдже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TextBox 3"/>
          <p:cNvSpPr/>
          <p:nvPr/>
        </p:nvSpPr>
        <p:spPr>
          <a:xfrm>
            <a:off x="324000" y="1125360"/>
            <a:ext cx="8424720" cy="916920"/>
          </a:xfrm>
          <a:prstGeom prst="rect">
            <a:avLst/>
          </a:prstGeom>
          <a:solidFill>
            <a:srgbClr val="e2f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овый кодекс Российской Федерации  (принят в 1998 году) устанавливает систему налогов и сборов, а также общие принципы налогообложения и сборов в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TextBox 4"/>
          <p:cNvSpPr/>
          <p:nvPr/>
        </p:nvSpPr>
        <p:spPr>
          <a:xfrm>
            <a:off x="395280" y="2452680"/>
            <a:ext cx="8353440" cy="368280"/>
          </a:xfrm>
          <a:prstGeom prst="rect">
            <a:avLst/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логовый кодекс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TextBox 5"/>
          <p:cNvSpPr/>
          <p:nvPr/>
        </p:nvSpPr>
        <p:spPr>
          <a:xfrm>
            <a:off x="395280" y="2820960"/>
            <a:ext cx="4140360" cy="368280"/>
          </a:xfrm>
          <a:prstGeom prst="rect">
            <a:avLst/>
          </a:prstGeom>
          <a:solidFill>
            <a:srgbClr val="b4c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TextBox 7"/>
          <p:cNvSpPr/>
          <p:nvPr/>
        </p:nvSpPr>
        <p:spPr>
          <a:xfrm>
            <a:off x="4535640" y="2820960"/>
            <a:ext cx="4213080" cy="368280"/>
          </a:xfrm>
          <a:prstGeom prst="rect">
            <a:avLst/>
          </a:prstGeom>
          <a:solidFill>
            <a:srgbClr val="b4c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Box 8"/>
          <p:cNvSpPr/>
          <p:nvPr/>
        </p:nvSpPr>
        <p:spPr>
          <a:xfrm>
            <a:off x="395280" y="3173400"/>
            <a:ext cx="4140360" cy="173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ирование порядка взаимоотношений налоговых органов и налогоплательщ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TextBox 9"/>
          <p:cNvSpPr/>
          <p:nvPr/>
        </p:nvSpPr>
        <p:spPr>
          <a:xfrm>
            <a:off x="395280" y="4640400"/>
            <a:ext cx="4140360" cy="173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ие ответственности за совершение налоговых правонару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TextBox 10"/>
          <p:cNvSpPr/>
          <p:nvPr/>
        </p:nvSpPr>
        <p:spPr>
          <a:xfrm>
            <a:off x="4530600" y="3191040"/>
            <a:ext cx="4213440" cy="173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и порядок взимания федеральных, региональных и местных нало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TextBox 11"/>
          <p:cNvSpPr/>
          <p:nvPr/>
        </p:nvSpPr>
        <p:spPr>
          <a:xfrm>
            <a:off x="4535640" y="4649760"/>
            <a:ext cx="4213080" cy="173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е налоговые режи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Номер слайда 12"/>
          <p:cNvSpPr/>
          <p:nvPr/>
        </p:nvSpPr>
        <p:spPr>
          <a:xfrm>
            <a:off x="8604360" y="6381720"/>
            <a:ext cx="36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BBBB-9CB5-4AA4-A34C-25EF2EFBF6E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доходов бюджета сельского поселения осуществляется в соответствии с требованиями Бюджетного послания Президента Российской Федерации Федеральному Собранию Российской Федерации о бюджетной политике, на основе положений Бюджетного кодекса Российской Федерации, Налогового кодекса Российской Федерации, решений земского собрания Графовского сельского поселения (о едином налоге на вмененный доход), а также решений представительных органов местного самоуправления поселений по местным налогам (земельному налогу, налогу на имущество физических лиц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Номер слайда 2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57AD-C517-45AA-92D7-789B0AEB219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лотиловском сельском поселении бюджет формируется на три года. Ежегодно принимается постановление  главы администрации сельского поселения «О подготовке  бюджета  сельского поселения на очередной финансовый год и плановый период», которым утверждаются календарный план мероприятий и график представления документов  по составлению проекта бюджета сельского поселе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календарному плану администраторы доходов и администрация сельского поселения представляют необходимую информацию для планирования бюджета на очередной год и на плановый перио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Номер слайда 2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0AAA-F0E0-4490-ADDC-93D5B03C5D4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"/>
          <p:cNvSpPr txBox="1"/>
          <p:nvPr/>
        </p:nvSpPr>
        <p:spPr>
          <a:xfrm>
            <a:off x="457200" y="35712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ые разработки доходной базы бюджета сельского поселения осуществляются с учетом основных направлений налоговой и бюджетной политики на прогнозируемый период в соответствии с главой 9 Бюджетного кодекса Российской Федерации «Доходы местных бюджетов» и статьями 173 «Прогноз социально-экономического развития», 174.1 «Прогнозирование доходов бюджета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пределения доходов бюджета сельского поселения используются показатели прогноза социально-экономического развития поселения, составляемые администрацией по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Номер слайда 2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A309-8088-438B-AF79-DFFF6ABCB64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"/>
          <p:cNvSpPr txBox="1"/>
          <p:nvPr/>
        </p:nvSpPr>
        <p:spPr>
          <a:xfrm>
            <a:off x="285840" y="214200"/>
            <a:ext cx="84009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ные разработки по каждому виду доходов производятся главными администраторами доходов бюджета поселения на базе сложившейся динамики их поступлений, ожидаемой оценки доходов в текущем году, задолженности по налогам, а также налогооблагаемой базы, прогнозируемой на 3 года: прибыли, фонда оплаты труда, темпов роста (снижения) объемов производства, стоимости имущества, кадастровой стоимости земли, заключенных договоров на передачу в аренду имущества муниципальной собственности, действующих ставок по налоговым и неналоговым платежам, а также экономических темпов инфляции, базовым из которых является индекс роста потребительских ц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Номер слайда 2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B75F-2EDE-4A2D-9775-2B23C6326DF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c7e7"/>
            </a:gs>
            <a:gs pos="100000">
              <a:srgbClr val="e1ecfb"/>
            </a:gs>
          </a:gsLst>
          <a:lin ang="1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gradFill rotWithShape="0">
            <a:gsLst>
              <a:gs pos="0">
                <a:srgbClr val="c5e0b4"/>
              </a:gs>
              <a:gs pos="100000">
                <a:srgbClr val="e1ecfb"/>
              </a:gs>
            </a:gsLst>
            <a:lin ang="1800000"/>
          </a:gra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ы бюдж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Номер слайда 14"/>
          <p:cNvSpPr/>
          <p:nvPr/>
        </p:nvSpPr>
        <p:spPr>
          <a:xfrm>
            <a:off x="8675640" y="6492960"/>
            <a:ext cx="371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97FE-6F95-4FED-A004-B91A616FFD9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TextBox 2"/>
          <p:cNvSpPr/>
          <p:nvPr/>
        </p:nvSpPr>
        <p:spPr>
          <a:xfrm>
            <a:off x="1692360" y="72720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ы бюджета – безвозмездные и безвозвратные поступления денежных средств в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Прямая соединительная линия 4"/>
          <p:cNvSpPr/>
          <p:nvPr/>
        </p:nvSpPr>
        <p:spPr>
          <a:xfrm flipV="1">
            <a:off x="1727280" y="1341000"/>
            <a:ext cx="5400720" cy="12600"/>
          </a:xfrm>
          <a:prstGeom prst="line">
            <a:avLst/>
          </a:prstGeom>
          <a:ln w="255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Прямая соединительная линия 11"/>
          <p:cNvSpPr/>
          <p:nvPr/>
        </p:nvSpPr>
        <p:spPr>
          <a:xfrm>
            <a:off x="4276800" y="1328760"/>
            <a:ext cx="0" cy="344520"/>
          </a:xfrm>
          <a:prstGeom prst="line">
            <a:avLst/>
          </a:prstGeom>
          <a:ln w="255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Прямая соединительная линия 12"/>
          <p:cNvSpPr/>
          <p:nvPr/>
        </p:nvSpPr>
        <p:spPr>
          <a:xfrm>
            <a:off x="7128000" y="1357200"/>
            <a:ext cx="0" cy="376200"/>
          </a:xfrm>
          <a:prstGeom prst="line">
            <a:avLst/>
          </a:prstGeom>
          <a:ln w="255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Прямая соединительная линия 13"/>
          <p:cNvSpPr/>
          <p:nvPr/>
        </p:nvSpPr>
        <p:spPr>
          <a:xfrm>
            <a:off x="1727280" y="1338120"/>
            <a:ext cx="0" cy="362160"/>
          </a:xfrm>
          <a:prstGeom prst="line">
            <a:avLst/>
          </a:prstGeom>
          <a:ln w="255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TextBox 20"/>
          <p:cNvSpPr/>
          <p:nvPr/>
        </p:nvSpPr>
        <p:spPr>
          <a:xfrm>
            <a:off x="179280" y="1733400"/>
            <a:ext cx="2468520" cy="307080"/>
          </a:xfrm>
          <a:prstGeom prst="rect">
            <a:avLst/>
          </a:prstGeom>
          <a:solidFill>
            <a:srgbClr val="dfe26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ОВЫЕ ДОХ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TextBox 21"/>
          <p:cNvSpPr/>
          <p:nvPr/>
        </p:nvSpPr>
        <p:spPr>
          <a:xfrm>
            <a:off x="2843280" y="1700280"/>
            <a:ext cx="2970000" cy="307080"/>
          </a:xfrm>
          <a:prstGeom prst="rect">
            <a:avLst/>
          </a:prstGeom>
          <a:solidFill>
            <a:srgbClr val="5ee2f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НАЛОГОВЫЕ ДОХ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TextBox 22"/>
          <p:cNvSpPr/>
          <p:nvPr/>
        </p:nvSpPr>
        <p:spPr>
          <a:xfrm>
            <a:off x="5940360" y="1733400"/>
            <a:ext cx="2772000" cy="580680"/>
          </a:xfrm>
          <a:prstGeom prst="rect">
            <a:avLst/>
          </a:prstGeom>
          <a:solidFill>
            <a:srgbClr val="3cd87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ВОЗМЕЗДНЫЕ ПОСТУП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TextBox 23"/>
          <p:cNvSpPr/>
          <p:nvPr/>
        </p:nvSpPr>
        <p:spPr>
          <a:xfrm>
            <a:off x="5940360" y="2349360"/>
            <a:ext cx="2772000" cy="4231080"/>
          </a:xfrm>
          <a:prstGeom prst="rect">
            <a:avLst/>
          </a:prstGeom>
          <a:solidFill>
            <a:srgbClr val="afebb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ления от других бюджетов (межбюджетные трансферты), спонсорская помощь от организаций и гражд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TextBox 24"/>
          <p:cNvSpPr/>
          <p:nvPr/>
        </p:nvSpPr>
        <p:spPr>
          <a:xfrm>
            <a:off x="2843280" y="2008080"/>
            <a:ext cx="2970000" cy="3501000"/>
          </a:xfrm>
          <a:prstGeom prst="rect">
            <a:avLst/>
          </a:prstGeom>
          <a:solidFill>
            <a:srgbClr val="bef4f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ления от уплаты платежей, установленных законодательством Российской Федерации, а также штрафов за нарушение законодательства, наприме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ы от использования муниципального имуще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а за негативное воздействие на окружающую сред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рафы за нарушение законодатель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Box 25"/>
          <p:cNvSpPr/>
          <p:nvPr/>
        </p:nvSpPr>
        <p:spPr>
          <a:xfrm>
            <a:off x="179280" y="2041560"/>
            <a:ext cx="2468520" cy="4474440"/>
          </a:xfrm>
          <a:prstGeom prst="rect">
            <a:avLst/>
          </a:prstGeom>
          <a:solidFill>
            <a:srgbClr val="f5f8c8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ления от уплаты налогов, установленных Налоговым кодексом Российской Федерации, наприме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 на доходы физических лиц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ый сельскохозяйственный налог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ельный налог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 на имущество физических лиц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из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Прямоугольник 18"/>
          <p:cNvSpPr/>
          <p:nvPr/>
        </p:nvSpPr>
        <p:spPr>
          <a:xfrm>
            <a:off x="8786880" y="6581880"/>
            <a:ext cx="3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741A-F101-41A4-B5FB-B623E64259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3" name=""/>
          <p:cNvGraphicFramePr/>
          <p:nvPr/>
        </p:nvGraphicFramePr>
        <p:xfrm>
          <a:off x="-36360" y="260280"/>
          <a:ext cx="9180360" cy="4033800"/>
        </p:xfrm>
        <a:graphic>
          <a:graphicData uri="http://schemas.openxmlformats.org/drawingml/2006/table">
            <a:tbl>
              <a:tblPr/>
              <a:tblGrid>
                <a:gridCol w="5400360"/>
                <a:gridCol w="1152720"/>
                <a:gridCol w="934920"/>
                <a:gridCol w="865440"/>
                <a:gridCol w="826920"/>
              </a:tblGrid>
              <a:tr h="5806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дения об исполнении бюджета сельского поселения за 2021 год по налоговым и неналоговым доход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1f6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о решением с изменени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испол-н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лоне-ния (+, -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</a:tr>
              <a:tr h="37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ые и неналогов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5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</a:tr>
              <a:tr h="40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</a:tr>
              <a:tr h="40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имущ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ый  сельскохозяйственный на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</a:tr>
              <a:tr h="39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, получаемые в виде арендной платы за земельные учас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eb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TextBox 3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gradFill rotWithShape="0">
            <a:gsLst>
              <a:gs pos="0">
                <a:srgbClr val="c5e0b4"/>
              </a:gs>
              <a:gs pos="100000">
                <a:srgbClr val="ffebfa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БЮДЖЕТНЫЕ ТРАНСФЕРТЫ – ОСНОВНОЙ ВИД БЕЗВОЗМЕЗДНЫХ ПЕРЕЧИС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Box 4"/>
          <p:cNvSpPr/>
          <p:nvPr/>
        </p:nvSpPr>
        <p:spPr>
          <a:xfrm>
            <a:off x="324000" y="939960"/>
            <a:ext cx="8496000" cy="703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бюджетные трансферты – денежные средства, перечисляемые из одного бюджета бюджетной системы Российской Федерации друг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TextBox 5"/>
          <p:cNvSpPr/>
          <p:nvPr/>
        </p:nvSpPr>
        <p:spPr>
          <a:xfrm>
            <a:off x="250920" y="1803240"/>
            <a:ext cx="23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межбюджетных трансфер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TextBox 6"/>
          <p:cNvSpPr/>
          <p:nvPr/>
        </p:nvSpPr>
        <p:spPr>
          <a:xfrm>
            <a:off x="3743280" y="192420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TextBox 7"/>
          <p:cNvSpPr/>
          <p:nvPr/>
        </p:nvSpPr>
        <p:spPr>
          <a:xfrm>
            <a:off x="6372360" y="1803240"/>
            <a:ext cx="22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огия в семейном бюдже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TextBox 8"/>
          <p:cNvSpPr/>
          <p:nvPr/>
        </p:nvSpPr>
        <p:spPr>
          <a:xfrm>
            <a:off x="237960" y="2454120"/>
            <a:ext cx="2830680" cy="1310760"/>
          </a:xfrm>
          <a:prstGeom prst="rect">
            <a:avLst/>
          </a:prstGeom>
          <a:solidFill>
            <a:srgbClr val="d6dc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тации (от лат. «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tation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р, пожертв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TextBox 9"/>
          <p:cNvSpPr/>
          <p:nvPr/>
        </p:nvSpPr>
        <p:spPr>
          <a:xfrm>
            <a:off x="260280" y="3780000"/>
            <a:ext cx="2808360" cy="1554120"/>
          </a:xfrm>
          <a:prstGeom prst="rect">
            <a:avLst/>
          </a:pr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венции (от лат. «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venire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)- приходить на помощ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TextBox 10"/>
          <p:cNvSpPr/>
          <p:nvPr/>
        </p:nvSpPr>
        <p:spPr>
          <a:xfrm>
            <a:off x="268200" y="5362560"/>
            <a:ext cx="2792520" cy="13107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сидии (от лат. «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idium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) - поддерж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TextBox 11"/>
          <p:cNvSpPr/>
          <p:nvPr/>
        </p:nvSpPr>
        <p:spPr>
          <a:xfrm>
            <a:off x="3059280" y="2449440"/>
            <a:ext cx="2992320" cy="1310760"/>
          </a:xfrm>
          <a:prstGeom prst="rect">
            <a:avLst/>
          </a:prstGeom>
          <a:solidFill>
            <a:srgbClr val="d6dc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ются без определения конкретной цели их исполь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TextBox 12"/>
          <p:cNvSpPr/>
          <p:nvPr/>
        </p:nvSpPr>
        <p:spPr>
          <a:xfrm>
            <a:off x="3027240" y="3780000"/>
            <a:ext cx="3024360" cy="1554120"/>
          </a:xfrm>
          <a:prstGeom prst="rect">
            <a:avLst/>
          </a:pr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ются на финансирование «переданных» другим публично-правовым образованиям полномоч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TextBox 13"/>
          <p:cNvSpPr/>
          <p:nvPr/>
        </p:nvSpPr>
        <p:spPr>
          <a:xfrm>
            <a:off x="3052800" y="5354640"/>
            <a:ext cx="3058920" cy="13107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ются на условиях долевого софинансирования расходов других бюдж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TextBox 14"/>
          <p:cNvSpPr/>
          <p:nvPr/>
        </p:nvSpPr>
        <p:spPr>
          <a:xfrm>
            <a:off x="6051600" y="2446200"/>
            <a:ext cx="2790720" cy="1310760"/>
          </a:xfrm>
          <a:prstGeom prst="rect">
            <a:avLst/>
          </a:prstGeom>
          <a:solidFill>
            <a:srgbClr val="d6dc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даете своему ребенку карманные день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TextBox 15"/>
          <p:cNvSpPr/>
          <p:nvPr/>
        </p:nvSpPr>
        <p:spPr>
          <a:xfrm>
            <a:off x="6051600" y="3768840"/>
            <a:ext cx="2781360" cy="1617480"/>
          </a:xfrm>
          <a:prstGeom prst="rect">
            <a:avLst/>
          </a:pr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даете своему ребенку деньги и посылаете его в магазин купить продукты (по списк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TextBox 16"/>
          <p:cNvSpPr/>
          <p:nvPr/>
        </p:nvSpPr>
        <p:spPr>
          <a:xfrm>
            <a:off x="6076800" y="5354640"/>
            <a:ext cx="2743200" cy="13107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«добавляете» денег для того, чтобы ребенок купил себе новый телефон (а остальные он накопил са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Номер слайда 17"/>
          <p:cNvSpPr/>
          <p:nvPr/>
        </p:nvSpPr>
        <p:spPr>
          <a:xfrm>
            <a:off x="8774280" y="6492960"/>
            <a:ext cx="36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568A-C72D-4827-8AFF-22F95264D0E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Прямоугольник 18"/>
          <p:cNvSpPr/>
          <p:nvPr/>
        </p:nvSpPr>
        <p:spPr>
          <a:xfrm>
            <a:off x="8786880" y="6581880"/>
            <a:ext cx="3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79D7-9973-49C9-9926-B96F615E7C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0" name=""/>
          <p:cNvGraphicFramePr/>
          <p:nvPr/>
        </p:nvGraphicFramePr>
        <p:xfrm>
          <a:off x="108000" y="549360"/>
          <a:ext cx="9036000" cy="3717720"/>
        </p:xfrm>
        <a:graphic>
          <a:graphicData uri="http://schemas.openxmlformats.org/drawingml/2006/table">
            <a:tbl>
              <a:tblPr/>
              <a:tblGrid>
                <a:gridCol w="5300640"/>
                <a:gridCol w="1139760"/>
                <a:gridCol w="924120"/>
                <a:gridCol w="853920"/>
                <a:gridCol w="817560"/>
              </a:tblGrid>
              <a:tr h="5806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дения об исполнении бюджета сельского поселения за 2021 год по безвозмездным поступлени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1f6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о решением с изменени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испол-н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лоне-ния (+, -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возмездные поступ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9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3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тации бюджетам сельских поселений на выравнивание бюджетной обеспеч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субсидии бюджетам сельских посел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бюджетам сельских поселений на осуществление первичного воинского у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</a:tr>
              <a:tr h="47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6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TextBox 2"/>
          <p:cNvSpPr/>
          <p:nvPr/>
        </p:nvSpPr>
        <p:spPr>
          <a:xfrm>
            <a:off x="1371600" y="115920"/>
            <a:ext cx="730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Бюджетный процесс – ежегодное формирование и исполнение бюдж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Овал 5"/>
          <p:cNvSpPr/>
          <p:nvPr/>
        </p:nvSpPr>
        <p:spPr>
          <a:xfrm>
            <a:off x="520560" y="1122480"/>
            <a:ext cx="648000" cy="576000"/>
          </a:xfrm>
          <a:prstGeom prst="ellipse">
            <a:avLst/>
          </a:prstGeom>
          <a:solidFill>
            <a:srgbClr val="a9d18e"/>
          </a:solidFill>
          <a:ln w="1260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Овал 11"/>
          <p:cNvSpPr/>
          <p:nvPr/>
        </p:nvSpPr>
        <p:spPr>
          <a:xfrm>
            <a:off x="622440" y="1920960"/>
            <a:ext cx="647640" cy="576000"/>
          </a:xfrm>
          <a:prstGeom prst="ellipse">
            <a:avLst/>
          </a:prstGeom>
          <a:solidFill>
            <a:srgbClr val="a9d18e"/>
          </a:solidFill>
          <a:ln w="1260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Овал 12"/>
          <p:cNvSpPr/>
          <p:nvPr/>
        </p:nvSpPr>
        <p:spPr>
          <a:xfrm>
            <a:off x="638280" y="2727360"/>
            <a:ext cx="649080" cy="574560"/>
          </a:xfrm>
          <a:prstGeom prst="ellipse">
            <a:avLst/>
          </a:prstGeom>
          <a:solidFill>
            <a:srgbClr val="a9d18e"/>
          </a:solidFill>
          <a:ln w="1260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Овал 13"/>
          <p:cNvSpPr/>
          <p:nvPr/>
        </p:nvSpPr>
        <p:spPr>
          <a:xfrm>
            <a:off x="723960" y="3559320"/>
            <a:ext cx="647640" cy="574560"/>
          </a:xfrm>
          <a:prstGeom prst="ellipse">
            <a:avLst/>
          </a:prstGeom>
          <a:solidFill>
            <a:srgbClr val="a9d18e"/>
          </a:solidFill>
          <a:ln w="1260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Овал 14"/>
          <p:cNvSpPr/>
          <p:nvPr/>
        </p:nvSpPr>
        <p:spPr>
          <a:xfrm>
            <a:off x="844560" y="4400640"/>
            <a:ext cx="647640" cy="576000"/>
          </a:xfrm>
          <a:prstGeom prst="ellipse">
            <a:avLst/>
          </a:prstGeom>
          <a:solidFill>
            <a:srgbClr val="a9d18e"/>
          </a:solidFill>
          <a:ln w="1260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Овал 15"/>
          <p:cNvSpPr/>
          <p:nvPr/>
        </p:nvSpPr>
        <p:spPr>
          <a:xfrm>
            <a:off x="911160" y="5295960"/>
            <a:ext cx="647640" cy="576360"/>
          </a:xfrm>
          <a:prstGeom prst="ellipse">
            <a:avLst/>
          </a:prstGeom>
          <a:solidFill>
            <a:srgbClr val="a9d18e"/>
          </a:solidFill>
          <a:ln w="1260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TextBox 16"/>
          <p:cNvSpPr/>
          <p:nvPr/>
        </p:nvSpPr>
        <p:spPr>
          <a:xfrm>
            <a:off x="1484280" y="2655720"/>
            <a:ext cx="70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ие бюджета очередного года (законодательные, представительные органы вла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TextBox 17"/>
          <p:cNvSpPr/>
          <p:nvPr/>
        </p:nvSpPr>
        <p:spPr>
          <a:xfrm>
            <a:off x="1562040" y="3467160"/>
            <a:ext cx="75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 в текущем году (органы исполнительной власти;  местная администрация, финансовые орга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TextBox 18"/>
          <p:cNvSpPr/>
          <p:nvPr/>
        </p:nvSpPr>
        <p:spPr>
          <a:xfrm>
            <a:off x="1571760" y="4327560"/>
            <a:ext cx="74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отчета об исполнении бюджета предыдущего года (органы исполнительной вла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TextBox 19"/>
          <p:cNvSpPr/>
          <p:nvPr/>
        </p:nvSpPr>
        <p:spPr>
          <a:xfrm>
            <a:off x="1601640" y="5229360"/>
            <a:ext cx="699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ие отчета об исполнении бюджета предыдущего года (законодательные, представительные органы вла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TextBox 20"/>
          <p:cNvSpPr/>
          <p:nvPr/>
        </p:nvSpPr>
        <p:spPr>
          <a:xfrm>
            <a:off x="1235160" y="1052640"/>
            <a:ext cx="745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проекта бюджета очередного года (органы исполнительной вла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TextBox 21"/>
          <p:cNvSpPr/>
          <p:nvPr/>
        </p:nvSpPr>
        <p:spPr>
          <a:xfrm>
            <a:off x="1390680" y="18478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ние проекта бюджета очередного года (законодательные, представительные органы вла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Выгнутая вправо стрелка 26"/>
          <p:cNvSpPr/>
          <p:nvPr/>
        </p:nvSpPr>
        <p:spPr>
          <a:xfrm rot="10800000">
            <a:off x="178920" y="1235160"/>
            <a:ext cx="731880" cy="4532400"/>
          </a:xfrm>
          <a:custGeom>
            <a:avLst/>
            <a:gdLst>
              <a:gd name="textAreaLeft" fmla="*/ 97920 w 731880"/>
              <a:gd name="textAreaRight" fmla="*/ 633960 w 731880"/>
              <a:gd name="textAreaTop" fmla="*/ 1059480 h 4532400"/>
              <a:gd name="textAreaBottom" fmla="*/ 3400560 h 453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10101" stAng="-5400000" swAng="5400000"/>
                <a:lnTo>
                  <a:pt x="21600" y="11155"/>
                </a:lnTo>
                <a:arcTo wR="21600" hR="10101" stAng="0" swAng="3665656"/>
                <a:lnTo>
                  <a:pt x="5400" y="21279"/>
                </a:lnTo>
                <a:lnTo>
                  <a:pt x="0" y="20728"/>
                </a:lnTo>
                <a:lnTo>
                  <a:pt x="5400" y="19535"/>
                </a:lnTo>
                <a:lnTo>
                  <a:pt x="5400" y="19880"/>
                </a:lnTo>
                <a:arcTo wR="21600" hR="10101" stAng="3665656" swAng="-3581683"/>
                <a:lnTo>
                  <a:pt x="21571" y="10628"/>
                </a:lnTo>
                <a:arcTo wR="21600" hR="10101" stAng="-83972" swAng="-5316028"/>
                <a:close/>
              </a:path>
              <a:path fill="darkenLess" w="21600" h="21600">
                <a:moveTo>
                  <a:pt x="0" y="0"/>
                </a:moveTo>
                <a:arcTo wR="21600" hR="10101" stAng="-5400000" swAng="5400000"/>
                <a:lnTo>
                  <a:pt x="21600" y="11155"/>
                </a:lnTo>
                <a:arcTo wR="21600" hR="10101" stAng="0" swAng="-83972"/>
                <a:lnTo>
                  <a:pt x="21571" y="10628"/>
                </a:lnTo>
                <a:arcTo wR="21600" hR="10101" stAng="-83972" swAng="-5316028"/>
                <a:close/>
              </a:path>
            </a:pathLst>
          </a:custGeom>
          <a:solidFill>
            <a:srgbClr val="ffe699"/>
          </a:solidFill>
          <a:ln w="12600">
            <a:solidFill>
              <a:srgbClr val="ffe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Вертикальный свиток 2"/>
          <p:cNvSpPr/>
          <p:nvPr/>
        </p:nvSpPr>
        <p:spPr>
          <a:xfrm>
            <a:off x="3240" y="189000"/>
            <a:ext cx="9144000" cy="6192720"/>
          </a:xfrm>
          <a:prstGeom prst="verticalScroll">
            <a:avLst>
              <a:gd name="adj" fmla="val 12500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важаемые жители Колотиловского сельского поселени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ашему вниманию предлагается исполнение бюджета Колотиловского сельского поселения за 20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1 год в форме презентационного матери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 настоящее время обеспечение открытости и прозрачности бюджетного процесса является одним из ключевых направлений деятельности органов местного самоуправления. Для того, чтобы каждый житель сельского поселения мог получить информацию о бюджете нашего поселения, решение об исполнении бюджета размещено на официальном сайте органов местного самоуправления муниципального района. Мы постарались доступно отразить основные параметры исполнения бюджета Колотиловского сельского поселения за 2021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C127-A79B-4C88-B5C9-E5CDE61BBA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Прямоугольник 2"/>
          <p:cNvSpPr/>
          <p:nvPr/>
        </p:nvSpPr>
        <p:spPr>
          <a:xfrm>
            <a:off x="324000" y="260280"/>
            <a:ext cx="8640720" cy="28908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классифицируются расходы бюдже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Прямоугольник 3"/>
          <p:cNvSpPr/>
          <p:nvPr/>
        </p:nvSpPr>
        <p:spPr>
          <a:xfrm>
            <a:off x="324000" y="620640"/>
            <a:ext cx="8640720" cy="252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асходы бюджета </a:t>
            </a:r>
            <a:r>
              <a:rPr b="0" lang="en-US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– выплачиваемые из бюджета денежные сре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Формирование расходов </a:t>
            </a:r>
            <a:r>
              <a:rPr b="0" lang="en-US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существляется в соответствии с расходными обязательствами, обусловленными установленным законодательством разграничением полномочий, исполнение которых должно происходить в очередном финансовом году за счет средств соответствующих бюдже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инципы формирования расходов бюдже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d0d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 раздел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d0d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 ведомств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d0d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 государственным программам Белгородской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TextBox 4"/>
          <p:cNvSpPr/>
          <p:nvPr/>
        </p:nvSpPr>
        <p:spPr>
          <a:xfrm>
            <a:off x="900000" y="321300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ы классификации расходов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TextBox 20"/>
          <p:cNvSpPr/>
          <p:nvPr/>
        </p:nvSpPr>
        <p:spPr>
          <a:xfrm>
            <a:off x="1042920" y="3716280"/>
            <a:ext cx="1873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 «Общегосуда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е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TextBox 22"/>
          <p:cNvSpPr/>
          <p:nvPr/>
        </p:nvSpPr>
        <p:spPr>
          <a:xfrm>
            <a:off x="1042920" y="443700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 «Националь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рон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TextBox 25"/>
          <p:cNvSpPr/>
          <p:nvPr/>
        </p:nvSpPr>
        <p:spPr>
          <a:xfrm>
            <a:off x="1042920" y="4941720"/>
            <a:ext cx="172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 «Националь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сть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охранитель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TextBox 1023"/>
          <p:cNvSpPr/>
          <p:nvPr/>
        </p:nvSpPr>
        <p:spPr>
          <a:xfrm>
            <a:off x="2987640" y="5013360"/>
            <a:ext cx="107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 «Охра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ающ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TextBox 1038"/>
          <p:cNvSpPr/>
          <p:nvPr/>
        </p:nvSpPr>
        <p:spPr>
          <a:xfrm>
            <a:off x="2987640" y="4292640"/>
            <a:ext cx="136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 «Жилищн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альн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йств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TextBox 1047"/>
          <p:cNvSpPr/>
          <p:nvPr/>
        </p:nvSpPr>
        <p:spPr>
          <a:xfrm>
            <a:off x="4643280" y="3789360"/>
            <a:ext cx="13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 «Образован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TextBox 1053"/>
          <p:cNvSpPr/>
          <p:nvPr/>
        </p:nvSpPr>
        <p:spPr>
          <a:xfrm>
            <a:off x="4643280" y="407664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 «Культур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нематограф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TextBox 1067"/>
          <p:cNvSpPr/>
          <p:nvPr/>
        </p:nvSpPr>
        <p:spPr>
          <a:xfrm>
            <a:off x="4716360" y="4581360"/>
            <a:ext cx="136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«Социаль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ти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TextBox 1074"/>
          <p:cNvSpPr/>
          <p:nvPr/>
        </p:nvSpPr>
        <p:spPr>
          <a:xfrm>
            <a:off x="4788000" y="5084640"/>
            <a:ext cx="129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«Физическ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и спор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TextBox 1087"/>
          <p:cNvSpPr/>
          <p:nvPr/>
        </p:nvSpPr>
        <p:spPr>
          <a:xfrm>
            <a:off x="6877080" y="3789360"/>
            <a:ext cx="144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«Сред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ов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TextBox 1103"/>
          <p:cNvSpPr/>
          <p:nvPr/>
        </p:nvSpPr>
        <p:spPr>
          <a:xfrm>
            <a:off x="6806520" y="4508640"/>
            <a:ext cx="155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«Межбюджет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фер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го характер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TextBox 1139"/>
          <p:cNvSpPr/>
          <p:nvPr/>
        </p:nvSpPr>
        <p:spPr>
          <a:xfrm>
            <a:off x="2916360" y="3789360"/>
            <a:ext cx="1398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 «Националь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Номер слайда 47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3F27-3943-47D1-8588-214E3ECBB5CC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gradFill rotWithShape="0">
            <a:gsLst>
              <a:gs pos="0">
                <a:srgbClr val="c5e0b4"/>
              </a:gs>
              <a:gs pos="100000">
                <a:srgbClr val="e1ecfb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расходов бюджета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тиловского сельского поселения за 202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Номер слайда 27"/>
          <p:cNvSpPr/>
          <p:nvPr/>
        </p:nvSpPr>
        <p:spPr>
          <a:xfrm>
            <a:off x="685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3" name=""/>
          <p:cNvGraphicFramePr/>
          <p:nvPr/>
        </p:nvGraphicFramePr>
        <p:xfrm>
          <a:off x="785880" y="1214280"/>
          <a:ext cx="7286400" cy="3062520"/>
        </p:xfrm>
        <a:graphic>
          <a:graphicData uri="http://schemas.openxmlformats.org/drawingml/2006/table">
            <a:tbl>
              <a:tblPr/>
              <a:tblGrid>
                <a:gridCol w="4081320"/>
                <a:gridCol w="1895400"/>
                <a:gridCol w="1309680"/>
              </a:tblGrid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и профинансиров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ельный ве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87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1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1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2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4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8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1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19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 Е Г 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9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9960"/>
          </a:xfrm>
          <a:prstGeom prst="rect">
            <a:avLst/>
          </a:prstGeom>
          <a:gradFill rotWithShape="0">
            <a:gsLst>
              <a:gs pos="0">
                <a:srgbClr val="c5e0b4"/>
              </a:gs>
              <a:gs pos="100000">
                <a:srgbClr val="e1ecfb"/>
              </a:gs>
            </a:gsLst>
            <a:lin ang="2700000"/>
          </a:gra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TextBox 4"/>
          <p:cNvSpPr/>
          <p:nvPr/>
        </p:nvSpPr>
        <p:spPr>
          <a:xfrm>
            <a:off x="0" y="333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15968"/>
                </a:solidFill>
                <a:latin typeface="Times New Roman"/>
              </a:rPr>
              <a:t>Сведения об исполнении расходов бюджета сельского поселения к первоначальным плановым назначениям за 2021 г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Прямоугольник 14"/>
          <p:cNvSpPr/>
          <p:nvPr/>
        </p:nvSpPr>
        <p:spPr>
          <a:xfrm>
            <a:off x="848160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06C2-43F6-4AD9-B93A-434BF7968E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7" name=""/>
          <p:cNvGraphicFramePr/>
          <p:nvPr/>
        </p:nvGraphicFramePr>
        <p:xfrm>
          <a:off x="900000" y="1484280"/>
          <a:ext cx="7215480" cy="2844720"/>
        </p:xfrm>
        <a:graphic>
          <a:graphicData uri="http://schemas.openxmlformats.org/drawingml/2006/table">
            <a:tbl>
              <a:tblPr/>
              <a:tblGrid>
                <a:gridCol w="500040"/>
                <a:gridCol w="2578320"/>
                <a:gridCol w="1092240"/>
                <a:gridCol w="973080"/>
                <a:gridCol w="974520"/>
                <a:gridCol w="1097280"/>
              </a:tblGrid>
              <a:tr h="555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верждено на 202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о за 202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клонение (+;-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испол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93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8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3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2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4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РАСХОД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7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Вертикальный свиток 2"/>
          <p:cNvSpPr/>
          <p:nvPr/>
        </p:nvSpPr>
        <p:spPr>
          <a:xfrm>
            <a:off x="0" y="692280"/>
            <a:ext cx="9144000" cy="5976720"/>
          </a:xfrm>
          <a:prstGeom prst="verticalScroll">
            <a:avLst>
              <a:gd name="adj" fmla="val 12500"/>
            </a:avLst>
          </a:prstGeom>
          <a:solidFill>
            <a:srgbClr val="deebf7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ЮДЖЕТ – ЭТО ПЛАН ДОХОДОВ И РАС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Каждый житель сельского поселения является участником формирования этого плана с одной стороны как налогоплательщик, наполняя доходы бюджета, с другой – он получает часть расходов как потребитель общественных усл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Государство расходует поступившие доходы для выполнения своих функций и предоставления общественных (государственных) услуг: образование, культура, спорт, социальное обеспечение, поддержка экономики, гарантии безопасности и правопорядка, защита общественных интересов, гражданских прав и свобод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0" name="Заголовок 5" descr=""/>
          <p:cNvPicPr/>
          <p:nvPr/>
        </p:nvPicPr>
        <p:blipFill>
          <a:blip r:embed="rId1"/>
          <a:stretch/>
        </p:blipFill>
        <p:spPr>
          <a:xfrm>
            <a:off x="60480" y="-30240"/>
            <a:ext cx="8364240" cy="1116000"/>
          </a:xfrm>
          <a:prstGeom prst="rect">
            <a:avLst/>
          </a:prstGeom>
          <a:ln w="0">
            <a:noFill/>
          </a:ln>
        </p:spPr>
      </p:pic>
      <p:sp>
        <p:nvSpPr>
          <p:cNvPr id="1471" name="Номер слайда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473A-D611-42C7-8689-5A42F0B4868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Вертикальный свиток 2"/>
          <p:cNvSpPr/>
          <p:nvPr/>
        </p:nvSpPr>
        <p:spPr>
          <a:xfrm>
            <a:off x="3240" y="189000"/>
            <a:ext cx="9144000" cy="6192720"/>
          </a:xfrm>
          <a:prstGeom prst="verticalScroll">
            <a:avLst>
              <a:gd name="adj" fmla="val 12500"/>
            </a:avLst>
          </a:prstGeom>
          <a:solidFill>
            <a:srgbClr val="deebf7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bf9000"/>
                </a:solidFill>
                <a:uFillTx/>
                <a:latin typeface="Times New Roman"/>
                <a:ea typeface="Times New Roman"/>
              </a:rPr>
              <a:t>Доходы бюджета </a:t>
            </a:r>
            <a:r>
              <a:rPr b="1" i="1" lang="ru-RU" sz="2200" spc="-1" strike="noStrike">
                <a:solidFill>
                  <a:srgbClr val="bf9000"/>
                </a:solidFill>
                <a:latin typeface="Times New Roman"/>
                <a:ea typeface="Times New Roman"/>
              </a:rPr>
              <a:t>  </a:t>
            </a:r>
            <a:r>
              <a:rPr b="1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– поступающие в бюджет денежные сред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bf9000"/>
                </a:solidFill>
                <a:uFillTx/>
                <a:latin typeface="Times New Roman"/>
                <a:ea typeface="Times New Roman"/>
              </a:rPr>
              <a:t>Расходы бюджета</a:t>
            </a:r>
            <a:r>
              <a:rPr b="1" i="1" lang="ru-RU" sz="2200" spc="-1" strike="noStrike">
                <a:solidFill>
                  <a:srgbClr val="bf9000"/>
                </a:solidFill>
                <a:latin typeface="Times New Roman"/>
                <a:ea typeface="Times New Roman"/>
              </a:rPr>
              <a:t>   </a:t>
            </a:r>
            <a:r>
              <a:rPr b="1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– выплачиваемые из бюджета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енежные сред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bf9000"/>
                </a:solidFill>
                <a:uFillTx/>
                <a:latin typeface="Times New Roman"/>
                <a:ea typeface="Times New Roman"/>
              </a:rPr>
              <a:t>Дефицит бюджета</a:t>
            </a:r>
            <a:r>
              <a:rPr b="1" i="1" lang="ru-RU" sz="2200" spc="-1" strike="noStrike">
                <a:solidFill>
                  <a:srgbClr val="bf9000"/>
                </a:solidFill>
                <a:latin typeface="Times New Roman"/>
                <a:ea typeface="Times New Roman"/>
              </a:rPr>
              <a:t>   </a:t>
            </a:r>
            <a:r>
              <a:rPr b="1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– превышение расходов бюджета над его доход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bf9000"/>
                </a:solidFill>
                <a:uFillTx/>
                <a:latin typeface="Times New Roman"/>
                <a:ea typeface="Times New Roman"/>
              </a:rPr>
              <a:t>Профицит бюджета </a:t>
            </a:r>
            <a:r>
              <a:rPr b="1" i="1" lang="ru-RU" sz="2200" spc="-1" strike="noStrike">
                <a:solidFill>
                  <a:srgbClr val="bf9000"/>
                </a:solidFill>
                <a:latin typeface="Times New Roman"/>
                <a:ea typeface="Times New Roman"/>
              </a:rPr>
              <a:t>     </a:t>
            </a:r>
            <a:r>
              <a:rPr b="1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– превышение доходов над его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сход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bf9000"/>
                </a:solidFill>
                <a:uFillTx/>
                <a:latin typeface="Times New Roman"/>
                <a:ea typeface="Times New Roman"/>
              </a:rPr>
              <a:t>Бюджетные обязательства</a:t>
            </a:r>
            <a:r>
              <a:rPr b="1" i="1" lang="ru-RU" sz="2200" spc="-1" strike="noStrike">
                <a:solidFill>
                  <a:srgbClr val="bf9000"/>
                </a:solidFill>
                <a:latin typeface="Times New Roman"/>
                <a:ea typeface="Times New Roman"/>
              </a:rPr>
              <a:t>   </a:t>
            </a:r>
            <a:r>
              <a:rPr b="1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– расходные обязательства, подлежащие исполнению в соответствующем финансовом год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1802-AFBB-4D6D-BE04-8DDF22D1C3A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Вертикальный свиток 2"/>
          <p:cNvSpPr/>
          <p:nvPr/>
        </p:nvSpPr>
        <p:spPr>
          <a:xfrm>
            <a:off x="0" y="189000"/>
            <a:ext cx="9144000" cy="6335640"/>
          </a:xfrm>
          <a:prstGeom prst="verticalScroll">
            <a:avLst>
              <a:gd name="adj" fmla="val 12500"/>
            </a:avLst>
          </a:prstGeom>
          <a:solidFill>
            <a:srgbClr val="deebf7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БЮДЖЕТ ГОСУДАРСТВА – ЭТО ПЛАН НЕОБХОДИМЫХ ОБЩЕСТВУ РАСХОДОВ И ПРЕДПОЛАГАЕМЫХ ИСТОЧНИКОВ ДОХОДОВ  ДЛЯ ИХ ФИНАНС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bf9000"/>
                </a:solidFill>
                <a:latin typeface="Times New Roman"/>
                <a:ea typeface="Times New Roman"/>
              </a:rPr>
              <a:t>Размер расходов, как правило, определяется уровнем доходов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bf9000"/>
                </a:solidFill>
                <a:latin typeface="Times New Roman"/>
                <a:ea typeface="Times New Roman"/>
              </a:rPr>
              <a:t>Доходы же в большинстве случаев ограничены, по сравнению с потребностями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bf9000"/>
                </a:solidFill>
                <a:latin typeface="Times New Roman"/>
                <a:ea typeface="Times New Roman"/>
              </a:rPr>
              <a:t>В случае нехватки ресурсов для покрытия потребностей планируются источники заимствований или сокращаются расходы, а при превышении доходов над расходами планируются сферы вложения излишков ресурс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CAE3-2AB3-43E2-88DF-0010D06DD31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Скругленный прямоугольник 2"/>
          <p:cNvSpPr/>
          <p:nvPr/>
        </p:nvSpPr>
        <p:spPr>
          <a:xfrm>
            <a:off x="71280" y="115920"/>
            <a:ext cx="8929800" cy="6553080"/>
          </a:xfrm>
          <a:prstGeom prst="roundRect">
            <a:avLst>
              <a:gd name="adj" fmla="val 16667"/>
            </a:avLst>
          </a:prstGeom>
          <a:solidFill>
            <a:srgbClr val="deebf7"/>
          </a:solidFill>
          <a:ln w="12600">
            <a:solidFill>
              <a:srgbClr val="7f6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TextBox 3"/>
          <p:cNvSpPr/>
          <p:nvPr/>
        </p:nvSpPr>
        <p:spPr>
          <a:xfrm>
            <a:off x="250920" y="404640"/>
            <a:ext cx="85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 позволяет государству регулировать условия развития экономики (распределение доходов, потребление, сбережение и др.) и влиять на социально-экономические процессы в обществ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ющие цели экономической политики, которые достигаются с помощью бюджет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8" name="Схема 4" descr=""/>
          <p:cNvPicPr/>
          <p:nvPr/>
        </p:nvPicPr>
        <p:blipFill>
          <a:blip r:embed="rId1"/>
          <a:stretch/>
        </p:blipFill>
        <p:spPr>
          <a:xfrm>
            <a:off x="92160" y="2054160"/>
            <a:ext cx="8893080" cy="4548240"/>
          </a:xfrm>
          <a:prstGeom prst="rect">
            <a:avLst/>
          </a:prstGeom>
          <a:ln w="0">
            <a:noFill/>
          </a:ln>
        </p:spPr>
      </p:pic>
      <p:sp>
        <p:nvSpPr>
          <p:cNvPr id="1479" name="Номер слайда 5"/>
          <p:cNvSpPr/>
          <p:nvPr/>
        </p:nvSpPr>
        <p:spPr>
          <a:xfrm>
            <a:off x="8604360" y="6381720"/>
            <a:ext cx="36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6011-C485-44BB-A82C-954333F455D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Скругленный прямоугольник 2"/>
          <p:cNvSpPr/>
          <p:nvPr/>
        </p:nvSpPr>
        <p:spPr>
          <a:xfrm>
            <a:off x="34920" y="115920"/>
            <a:ext cx="9074160" cy="6626160"/>
          </a:xfrm>
          <a:prstGeom prst="roundRect">
            <a:avLst>
              <a:gd name="adj" fmla="val 16667"/>
            </a:avLst>
          </a:prstGeom>
          <a:solidFill>
            <a:srgbClr val="ccffff">
              <a:alpha val="74000"/>
            </a:srgbClr>
          </a:solidFill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Блок-схема: процесс 3"/>
          <p:cNvSpPr/>
          <p:nvPr/>
        </p:nvSpPr>
        <p:spPr>
          <a:xfrm>
            <a:off x="2124000" y="333360"/>
            <a:ext cx="4680000" cy="863640"/>
          </a:xfrm>
          <a:prstGeom prst="flowChartProcess">
            <a:avLst/>
          </a:prstGeom>
          <a:solidFill>
            <a:srgbClr val="008080"/>
          </a:solidFill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е бывают бюдж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Прямоугольник 4"/>
          <p:cNvSpPr/>
          <p:nvPr/>
        </p:nvSpPr>
        <p:spPr>
          <a:xfrm>
            <a:off x="401760" y="1781280"/>
            <a:ext cx="1987560" cy="1533600"/>
          </a:xfrm>
          <a:prstGeom prst="rect">
            <a:avLst/>
          </a:prstGeom>
          <a:solidFill>
            <a:srgbClr val="008080"/>
          </a:solidFill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юджеты сем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Прямоугольник 5"/>
          <p:cNvSpPr/>
          <p:nvPr/>
        </p:nvSpPr>
        <p:spPr>
          <a:xfrm>
            <a:off x="3132000" y="1781280"/>
            <a:ext cx="2592360" cy="1698480"/>
          </a:xfrm>
          <a:prstGeom prst="rect">
            <a:avLst/>
          </a:prstGeom>
          <a:solidFill>
            <a:srgbClr val="008080"/>
          </a:solidFill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юджеты публично-правовых образова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Прямоугольник 6"/>
          <p:cNvSpPr/>
          <p:nvPr/>
        </p:nvSpPr>
        <p:spPr>
          <a:xfrm>
            <a:off x="6372360" y="1781280"/>
            <a:ext cx="2160360" cy="1533600"/>
          </a:xfrm>
          <a:prstGeom prst="rect">
            <a:avLst/>
          </a:prstGeom>
          <a:solidFill>
            <a:srgbClr val="008080"/>
          </a:solidFill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юджеты организ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Прямоугольник 7"/>
          <p:cNvSpPr/>
          <p:nvPr/>
        </p:nvSpPr>
        <p:spPr>
          <a:xfrm>
            <a:off x="401760" y="4065480"/>
            <a:ext cx="2585880" cy="2316240"/>
          </a:xfrm>
          <a:prstGeom prst="rect">
            <a:avLst/>
          </a:prstGeom>
          <a:solidFill>
            <a:srgbClr val="008080"/>
          </a:solidFill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ссийской Федерации (федеральный бюджет, бюджеты государственных внебюджетных фондов Российской Федер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Прямоугольник 8"/>
          <p:cNvSpPr/>
          <p:nvPr/>
        </p:nvSpPr>
        <p:spPr>
          <a:xfrm>
            <a:off x="3276720" y="4065480"/>
            <a:ext cx="2808000" cy="2316240"/>
          </a:xfrm>
          <a:prstGeom prst="rect">
            <a:avLst/>
          </a:prstGeom>
          <a:solidFill>
            <a:srgbClr val="008080"/>
          </a:solidFill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бъектов Российской Федерации (региональные бюджеты, бюджеты территориальных фондов обязательного медицинского страхова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Прямоугольник 9"/>
          <p:cNvSpPr/>
          <p:nvPr/>
        </p:nvSpPr>
        <p:spPr>
          <a:xfrm>
            <a:off x="6394320" y="4065480"/>
            <a:ext cx="2354400" cy="2243160"/>
          </a:xfrm>
          <a:prstGeom prst="rect">
            <a:avLst/>
          </a:prstGeom>
          <a:solidFill>
            <a:srgbClr val="008080"/>
          </a:solidFill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ых образо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местные бюдже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Стрелка вправо 10"/>
          <p:cNvSpPr/>
          <p:nvPr/>
        </p:nvSpPr>
        <p:spPr>
          <a:xfrm rot="6291600">
            <a:off x="1706760" y="1238760"/>
            <a:ext cx="314280" cy="503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80"/>
          </a:solidFill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Стрелка вправо 11"/>
          <p:cNvSpPr/>
          <p:nvPr/>
        </p:nvSpPr>
        <p:spPr>
          <a:xfrm rot="4050000">
            <a:off x="6778080" y="1235160"/>
            <a:ext cx="324000" cy="504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80"/>
          </a:solidFill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Стрелка вправо 12"/>
          <p:cNvSpPr/>
          <p:nvPr/>
        </p:nvSpPr>
        <p:spPr>
          <a:xfrm rot="5400000">
            <a:off x="4041000" y="1173960"/>
            <a:ext cx="301680" cy="503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80"/>
          </a:solidFill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Стрелка вправо 13"/>
          <p:cNvSpPr/>
          <p:nvPr/>
        </p:nvSpPr>
        <p:spPr>
          <a:xfrm rot="7450800">
            <a:off x="2593440" y="3313080"/>
            <a:ext cx="449280" cy="50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80"/>
          </a:solidFill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Стрелка вправо 14"/>
          <p:cNvSpPr/>
          <p:nvPr/>
        </p:nvSpPr>
        <p:spPr>
          <a:xfrm rot="5400000">
            <a:off x="4286160" y="3497400"/>
            <a:ext cx="355680" cy="504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80"/>
          </a:solidFill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Стрелка вправо 15"/>
          <p:cNvSpPr/>
          <p:nvPr/>
        </p:nvSpPr>
        <p:spPr>
          <a:xfrm rot="2478600">
            <a:off x="5894280" y="3338280"/>
            <a:ext cx="379440" cy="503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80"/>
          </a:solidFill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Номер слайда 16"/>
          <p:cNvSpPr/>
          <p:nvPr/>
        </p:nvSpPr>
        <p:spPr>
          <a:xfrm>
            <a:off x="8675640" y="6381720"/>
            <a:ext cx="371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716D-23D1-4278-8DEA-8B14752E8FD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5" name="Picture 26" descr="KrqdYpplk9I"/>
          <p:cNvPicPr/>
          <p:nvPr/>
        </p:nvPicPr>
        <p:blipFill>
          <a:blip r:embed="rId1"/>
          <a:stretch/>
        </p:blipFill>
        <p:spPr>
          <a:xfrm>
            <a:off x="5508720" y="5445000"/>
            <a:ext cx="1366920" cy="1150920"/>
          </a:xfrm>
          <a:prstGeom prst="rect">
            <a:avLst/>
          </a:prstGeom>
          <a:ln w="0">
            <a:noFill/>
          </a:ln>
        </p:spPr>
      </p:pic>
      <p:pic>
        <p:nvPicPr>
          <p:cNvPr id="1496" name="Picture 30" descr="31216468"/>
          <p:cNvPicPr/>
          <p:nvPr/>
        </p:nvPicPr>
        <p:blipFill>
          <a:blip r:embed="rId2"/>
          <a:stretch/>
        </p:blipFill>
        <p:spPr>
          <a:xfrm>
            <a:off x="0" y="260280"/>
            <a:ext cx="2268360" cy="1557360"/>
          </a:xfrm>
          <a:prstGeom prst="rect">
            <a:avLst/>
          </a:prstGeom>
          <a:ln w="0">
            <a:noFill/>
          </a:ln>
        </p:spPr>
      </p:pic>
      <p:pic>
        <p:nvPicPr>
          <p:cNvPr id="1497" name="Picture 32" descr="commercial_164438872"/>
          <p:cNvPicPr/>
          <p:nvPr/>
        </p:nvPicPr>
        <p:blipFill>
          <a:blip r:embed="rId3"/>
          <a:stretch/>
        </p:blipFill>
        <p:spPr>
          <a:xfrm>
            <a:off x="6948360" y="404640"/>
            <a:ext cx="171612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8" name="Заголовок 1"/>
          <p:cNvGrpSpPr/>
          <p:nvPr/>
        </p:nvGrpSpPr>
        <p:grpSpPr>
          <a:xfrm>
            <a:off x="900000" y="0"/>
            <a:ext cx="8089920" cy="939960"/>
            <a:chOff x="900000" y="0"/>
            <a:chExt cx="8089920" cy="939960"/>
          </a:xfrm>
        </p:grpSpPr>
        <p:pic>
          <p:nvPicPr>
            <p:cNvPr id="1499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900000" y="0"/>
              <a:ext cx="8089920" cy="9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0" name=""/>
            <p:cNvSpPr/>
            <p:nvPr/>
          </p:nvSpPr>
          <p:spPr>
            <a:xfrm>
              <a:off x="907920" y="6480"/>
              <a:ext cx="807228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200"/>
              </a:br>
              <a:r>
                <a:rPr b="1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е задачи бюджетной политики Колотиловскогосельского поселения за 20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год</a:t>
              </a:r>
              <a:br>
                <a:rPr sz="3200"/>
              </a:b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1" name="Номер слайда 13"/>
          <p:cNvSpPr/>
          <p:nvPr/>
        </p:nvSpPr>
        <p:spPr>
          <a:xfrm>
            <a:off x="8675640" y="6381720"/>
            <a:ext cx="371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79BD-B510-4ADD-8543-F0E6BECF3DFD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Скругленный прямоугольник 6"/>
          <p:cNvSpPr/>
          <p:nvPr/>
        </p:nvSpPr>
        <p:spPr>
          <a:xfrm>
            <a:off x="4929120" y="3571920"/>
            <a:ext cx="4071960" cy="1152360"/>
          </a:xfrm>
          <a:prstGeom prst="roundRect">
            <a:avLst>
              <a:gd name="adj" fmla="val 16667"/>
            </a:avLst>
          </a:prstGeom>
          <a:solidFill>
            <a:srgbClr val="deebf7">
              <a:alpha val="66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птимизация расходов бюджета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Скругленный прямоугольник 8"/>
          <p:cNvSpPr/>
          <p:nvPr/>
        </p:nvSpPr>
        <p:spPr>
          <a:xfrm>
            <a:off x="214200" y="928800"/>
            <a:ext cx="4500720" cy="1071360"/>
          </a:xfrm>
          <a:prstGeom prst="roundRect">
            <a:avLst>
              <a:gd name="adj" fmla="val 16667"/>
            </a:avLst>
          </a:prstGeom>
          <a:solidFill>
            <a:srgbClr val="deebf7">
              <a:alpha val="66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беспечение сбалансированности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Скругленный прямоугольник 9"/>
          <p:cNvSpPr/>
          <p:nvPr/>
        </p:nvSpPr>
        <p:spPr>
          <a:xfrm>
            <a:off x="179280" y="2133720"/>
            <a:ext cx="4500720" cy="1071360"/>
          </a:xfrm>
          <a:prstGeom prst="roundRect">
            <a:avLst>
              <a:gd name="adj" fmla="val 16667"/>
            </a:avLst>
          </a:prstGeom>
          <a:solidFill>
            <a:srgbClr val="deebf7">
              <a:alpha val="66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величение собственных доходов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Скругленный прямоугольник 10"/>
          <p:cNvSpPr/>
          <p:nvPr/>
        </p:nvSpPr>
        <p:spPr>
          <a:xfrm>
            <a:off x="4932360" y="5013360"/>
            <a:ext cx="4071960" cy="1224000"/>
          </a:xfrm>
          <a:prstGeom prst="roundRect">
            <a:avLst>
              <a:gd name="adj" fmla="val 16667"/>
            </a:avLst>
          </a:prstGeom>
          <a:solidFill>
            <a:srgbClr val="deebf7">
              <a:alpha val="66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окращение объема дефицита районного бюджет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AutoShape 15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7" name="" descr=""/>
          <p:cNvPicPr/>
          <p:nvPr/>
        </p:nvPicPr>
        <p:blipFill>
          <a:blip r:embed="rId2"/>
          <a:stretch/>
        </p:blipFill>
        <p:spPr>
          <a:xfrm>
            <a:off x="395280" y="3573360"/>
            <a:ext cx="4103640" cy="2737080"/>
          </a:xfrm>
          <a:prstGeom prst="rect">
            <a:avLst/>
          </a:prstGeom>
          <a:ln w="0">
            <a:noFill/>
          </a:ln>
        </p:spPr>
      </p:pic>
      <p:pic>
        <p:nvPicPr>
          <p:cNvPr id="1508" name="" descr=""/>
          <p:cNvPicPr/>
          <p:nvPr/>
        </p:nvPicPr>
        <p:blipFill>
          <a:blip r:embed="rId3"/>
          <a:stretch/>
        </p:blipFill>
        <p:spPr>
          <a:xfrm>
            <a:off x="4859280" y="1052640"/>
            <a:ext cx="3889440" cy="2266920"/>
          </a:xfrm>
          <a:prstGeom prst="rect">
            <a:avLst/>
          </a:prstGeom>
          <a:ln w="0">
            <a:noFill/>
          </a:ln>
        </p:spPr>
      </p:pic>
      <p:pic>
        <p:nvPicPr>
          <p:cNvPr id="1509" name="" descr=""/>
          <p:cNvPicPr/>
          <p:nvPr/>
        </p:nvPicPr>
        <p:blipFill>
          <a:blip r:embed="rId4"/>
          <a:stretch/>
        </p:blipFill>
        <p:spPr>
          <a:xfrm>
            <a:off x="395280" y="3500280"/>
            <a:ext cx="4176720" cy="2808360"/>
          </a:xfrm>
          <a:prstGeom prst="rect">
            <a:avLst/>
          </a:prstGeom>
          <a:ln w="0">
            <a:noFill/>
          </a:ln>
        </p:spPr>
      </p:pic>
      <p:pic>
        <p:nvPicPr>
          <p:cNvPr id="1510" name="" descr=""/>
          <p:cNvPicPr/>
          <p:nvPr/>
        </p:nvPicPr>
        <p:blipFill>
          <a:blip r:embed="rId5"/>
          <a:stretch/>
        </p:blipFill>
        <p:spPr>
          <a:xfrm>
            <a:off x="4859280" y="981000"/>
            <a:ext cx="38750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c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TextBox 2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gradFill rotWithShape="0">
            <a:gsLst>
              <a:gs pos="0">
                <a:srgbClr val="c5e0b4"/>
              </a:gs>
              <a:gs pos="100000">
                <a:srgbClr val="e1ecfb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регулирует Бюджетный кодекс Российской Федера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TextBox 3"/>
          <p:cNvSpPr/>
          <p:nvPr/>
        </p:nvSpPr>
        <p:spPr>
          <a:xfrm>
            <a:off x="395280" y="1125360"/>
            <a:ext cx="8569440" cy="824040"/>
          </a:xfrm>
          <a:prstGeom prst="rect">
            <a:avLst/>
          </a:pr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ый кодекс Российской Федерации (принят в 1998 году) устанавливает общие принципы бюджетного законодательства Российской Федерации, организации и функционирования бюджетной системы Российской Федерации, определяет основы бюджетного процесса и межбюджетных отношений, основания и виды ответственности за нарушение бюджетного законодательства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TextBox 4"/>
          <p:cNvSpPr/>
          <p:nvPr/>
        </p:nvSpPr>
        <p:spPr>
          <a:xfrm>
            <a:off x="428760" y="2071800"/>
            <a:ext cx="8569080" cy="368280"/>
          </a:xfrm>
          <a:prstGeom prst="rect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юджетный кодекс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TextBox 5"/>
          <p:cNvSpPr/>
          <p:nvPr/>
        </p:nvSpPr>
        <p:spPr>
          <a:xfrm>
            <a:off x="395280" y="2430360"/>
            <a:ext cx="1944720" cy="946440"/>
          </a:xfrm>
          <a:prstGeom prst="rect">
            <a:avLst/>
          </a:prstGeom>
          <a:solidFill>
            <a:srgbClr val="ffe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е поло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TextBox 7"/>
          <p:cNvSpPr/>
          <p:nvPr/>
        </p:nvSpPr>
        <p:spPr>
          <a:xfrm>
            <a:off x="4465800" y="2433600"/>
            <a:ext cx="2193840" cy="946440"/>
          </a:xfrm>
          <a:prstGeom prst="rect">
            <a:avLst/>
          </a:prstGeom>
          <a:solidFill>
            <a:srgbClr val="ffe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I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ые процесс в  Российской Федер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TextBox 8"/>
          <p:cNvSpPr/>
          <p:nvPr/>
        </p:nvSpPr>
        <p:spPr>
          <a:xfrm>
            <a:off x="2341440" y="2433600"/>
            <a:ext cx="2124360" cy="946440"/>
          </a:xfrm>
          <a:prstGeom prst="rect">
            <a:avLst/>
          </a:prstGeom>
          <a:solidFill>
            <a:srgbClr val="ffe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I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ая система Российской Федер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TextBox 9"/>
          <p:cNvSpPr/>
          <p:nvPr/>
        </p:nvSpPr>
        <p:spPr>
          <a:xfrm>
            <a:off x="6659640" y="2430360"/>
            <a:ext cx="2305080" cy="946440"/>
          </a:xfrm>
          <a:prstGeom prst="rect">
            <a:avLst/>
          </a:prstGeom>
          <a:solidFill>
            <a:srgbClr val="ffe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I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ые нарушения и бюджетные меры прину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TextBox 10"/>
          <p:cNvSpPr/>
          <p:nvPr/>
        </p:nvSpPr>
        <p:spPr>
          <a:xfrm>
            <a:off x="395280" y="3359160"/>
            <a:ext cx="1944720" cy="1159560"/>
          </a:xfrm>
          <a:prstGeom prst="rect">
            <a:avLst/>
          </a:prstGeom>
          <a:solidFill>
            <a:srgbClr val="dfe9a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бюджетного законодатель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TextBox 11"/>
          <p:cNvSpPr/>
          <p:nvPr/>
        </p:nvSpPr>
        <p:spPr>
          <a:xfrm>
            <a:off x="2340000" y="3359160"/>
            <a:ext cx="2124000" cy="946440"/>
          </a:xfrm>
          <a:prstGeom prst="rect">
            <a:avLst/>
          </a:prstGeom>
          <a:solidFill>
            <a:srgbClr val="dfe9a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бюджетной системы Российской Федерации и бюджетной классифик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TextBox 12"/>
          <p:cNvSpPr/>
          <p:nvPr/>
        </p:nvSpPr>
        <p:spPr>
          <a:xfrm>
            <a:off x="4464000" y="3359160"/>
            <a:ext cx="2244600" cy="946440"/>
          </a:xfrm>
          <a:prstGeom prst="rect">
            <a:avLst/>
          </a:prstGeom>
          <a:solidFill>
            <a:srgbClr val="dfe9a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дии бюджетного проце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TextBox 13"/>
          <p:cNvSpPr/>
          <p:nvPr/>
        </p:nvSpPr>
        <p:spPr>
          <a:xfrm>
            <a:off x="6669000" y="3359160"/>
            <a:ext cx="2295720" cy="946440"/>
          </a:xfrm>
          <a:prstGeom prst="rect">
            <a:avLst/>
          </a:prstGeom>
          <a:solidFill>
            <a:srgbClr val="dfe9a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ые нарушения и их ви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TextBox 14"/>
          <p:cNvSpPr/>
          <p:nvPr/>
        </p:nvSpPr>
        <p:spPr>
          <a:xfrm>
            <a:off x="395280" y="4295880"/>
            <a:ext cx="1944720" cy="520200"/>
          </a:xfrm>
          <a:prstGeom prst="rect">
            <a:avLst/>
          </a:prstGeom>
          <a:solidFill>
            <a:srgbClr val="dfe9a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е понятия и терми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TextBox 15"/>
          <p:cNvSpPr/>
          <p:nvPr/>
        </p:nvSpPr>
        <p:spPr>
          <a:xfrm>
            <a:off x="2340000" y="4305240"/>
            <a:ext cx="2193840" cy="520200"/>
          </a:xfrm>
          <a:prstGeom prst="rect">
            <a:avLst/>
          </a:prstGeom>
          <a:solidFill>
            <a:srgbClr val="dfe9a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бюджетной сист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TextBox 16"/>
          <p:cNvSpPr/>
          <p:nvPr/>
        </p:nvSpPr>
        <p:spPr>
          <a:xfrm>
            <a:off x="4464000" y="4295880"/>
            <a:ext cx="2195640" cy="520200"/>
          </a:xfrm>
          <a:prstGeom prst="rect">
            <a:avLst/>
          </a:prstGeom>
          <a:solidFill>
            <a:srgbClr val="dfe9a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мочия участников бюджетного проце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TextBox 17"/>
          <p:cNvSpPr/>
          <p:nvPr/>
        </p:nvSpPr>
        <p:spPr>
          <a:xfrm>
            <a:off x="6659640" y="4295880"/>
            <a:ext cx="2305080" cy="520200"/>
          </a:xfrm>
          <a:prstGeom prst="rect">
            <a:avLst/>
          </a:prstGeom>
          <a:solidFill>
            <a:srgbClr val="dfe9a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ые меры прину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TextBox 18"/>
          <p:cNvSpPr/>
          <p:nvPr/>
        </p:nvSpPr>
        <p:spPr>
          <a:xfrm>
            <a:off x="396720" y="4786200"/>
            <a:ext cx="1944720" cy="2012040"/>
          </a:xfrm>
          <a:prstGeom prst="rect">
            <a:avLst/>
          </a:prstGeom>
          <a:solidFill>
            <a:srgbClr val="dfe9a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раничение бюджетных полномочий Российской Федерации, субъектов Российской Федерации и муниципальных образов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TextBox 19"/>
          <p:cNvSpPr/>
          <p:nvPr/>
        </p:nvSpPr>
        <p:spPr>
          <a:xfrm>
            <a:off x="2340000" y="4786200"/>
            <a:ext cx="2135160" cy="2012040"/>
          </a:xfrm>
          <a:prstGeom prst="rect">
            <a:avLst/>
          </a:prstGeom>
          <a:solidFill>
            <a:srgbClr val="dfe9a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ложения о доходах и расходах бюджетов, государственном (муниципальном) долге, межбюджетных трансфер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TextBox 20"/>
          <p:cNvSpPr/>
          <p:nvPr/>
        </p:nvSpPr>
        <p:spPr>
          <a:xfrm>
            <a:off x="4500720" y="4826160"/>
            <a:ext cx="2205000" cy="2012040"/>
          </a:xfrm>
          <a:prstGeom prst="rect">
            <a:avLst/>
          </a:prstGeom>
          <a:solidFill>
            <a:srgbClr val="dfe9a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ы государственного финансового конт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TextBox 21"/>
          <p:cNvSpPr/>
          <p:nvPr/>
        </p:nvSpPr>
        <p:spPr>
          <a:xfrm>
            <a:off x="6659640" y="4778280"/>
            <a:ext cx="2305080" cy="2012040"/>
          </a:xfrm>
          <a:prstGeom prst="rect">
            <a:avLst/>
          </a:prstGeom>
          <a:solidFill>
            <a:srgbClr val="dfe9a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Номер слайда 22"/>
          <p:cNvSpPr/>
          <p:nvPr/>
        </p:nvSpPr>
        <p:spPr>
          <a:xfrm>
            <a:off x="8604360" y="6381720"/>
            <a:ext cx="36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5FFD-BB45-458B-8E86-EE64D2282BE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1T11:45:15Z</dcterms:created>
  <dc:creator>Потатуркина Татьяна Андреевна</dc:creator>
  <dc:description/>
  <dc:language>en-US</dc:language>
  <cp:lastModifiedBy>User</cp:lastModifiedBy>
  <dcterms:modified xsi:type="dcterms:W3CDTF">2023-05-03T07:45:12Z</dcterms:modified>
  <cp:revision>474</cp:revision>
  <dc:subject/>
  <dc:title>Слайд 1</dc:title>
</cp:coreProperties>
</file>